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0724"/>
        <c:axId val="4920673"/>
      </c:barChart>
      <c:catAx>
        <c:axId val="5840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0673"/>
        <c:crosses val="autoZero"/>
        <c:auto val="1"/>
        <c:lblAlgn val="ctr"/>
        <c:lblOffset val="100"/>
        <c:noMultiLvlLbl val="0"/>
      </c:catAx>
      <c:valAx>
        <c:axId val="4920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A10-9B6E-483E-B7AA-D14AD912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57E-4038-4B2A-83B5-CBF6DD5A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B8E-193A-4FF4-9521-F8E671AE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D92-C845-487B-87C7-794938B2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F93-34A1-4BE4-92F2-D9170666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120-1483-427E-9D90-DAB90E6C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28B-84FE-485B-A1F3-310B135E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9CB-E111-4854-869D-D29DE3BD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537-1569-498D-9C0D-ED48E9CF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372-2530-45BA-A739-A9AC84C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C2D-2670-4C7D-9B23-5736ED71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482-ADC5-4267-8016-2590860E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0CD86-F525-48BB-BD06-3BB8C4FC29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