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9891"/>
        <c:axId val="28002421"/>
      </c:barChart>
      <c:catAx>
        <c:axId val="9071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02421"/>
        <c:crosses val="autoZero"/>
        <c:auto val="1"/>
        <c:lblAlgn val="ctr"/>
        <c:lblOffset val="100"/>
        <c:noMultiLvlLbl val="0"/>
      </c:catAx>
      <c:valAx>
        <c:axId val="28002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02A-358D-4CC4-B0FC-551C0F30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175-9A45-40A8-B4EC-57D187E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005-1BFD-45E8-BDC1-FAC366E0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964-D22C-48E6-A24B-45182D1C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76E-8A75-49D4-B39C-D01C010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2B7-830B-4D4C-8107-9C27B52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8C6-6499-4FC9-BC64-A48B4169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C67-9DCD-45CF-AC40-9986E28C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223-4605-48DA-B857-4671D48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CDD-F46D-4B4F-86C9-9B43FC3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709-17E2-45C4-AAF4-4C569E0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6AE-A8EF-4667-8548-BC700C5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5F9A-0EA2-4CA0-9F20-A11DD6A22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