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09677"/>
        <c:axId val="36896858"/>
      </c:barChart>
      <c:catAx>
        <c:axId val="76809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6858"/>
        <c:crosses val="autoZero"/>
        <c:auto val="1"/>
        <c:lblAlgn val="ctr"/>
        <c:lblOffset val="100"/>
        <c:noMultiLvlLbl val="0"/>
      </c:catAx>
      <c:valAx>
        <c:axId val="36896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09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DBE-8280-41CB-BD4E-5E46CDBC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94E-4682-4D86-8F25-899F57D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81A-5260-40C9-8C40-E5490E53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28D-949B-47C4-B0F1-44DAD0BC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AD8-228D-43D8-8315-82D42185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227-747D-48AF-96EB-AD35537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55A-9851-4F87-8DC0-E58F040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689-9F70-45FB-B42E-D650466C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DCC-F75C-47F7-B1D2-EC009D47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A25-130D-42B2-AF0D-D9871C2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5A6-D922-48AF-896B-634D08F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BC0-E8F0-4FE6-87B7-3F4CEAE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CB7AD-C96D-4DE8-9BAB-E8B6CF42A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