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02673"/>
        <c:axId val="33899275"/>
      </c:barChart>
      <c:catAx>
        <c:axId val="44202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99275"/>
        <c:crosses val="autoZero"/>
        <c:auto val="1"/>
        <c:lblAlgn val="ctr"/>
        <c:lblOffset val="100"/>
        <c:noMultiLvlLbl val="0"/>
      </c:catAx>
      <c:valAx>
        <c:axId val="33899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02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D9F-0529-456B-B119-6A36D703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B748-9BBB-4F97-A9DB-FF9E16CA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09E-8268-41E4-8DC7-9DB5A61D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1EC-019A-4B99-A933-82F59AE8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6BC-5F8C-4FE9-91BA-CAE3C7EE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994-03CC-4409-AFE2-CDE1B3F6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A15-D3E7-43E5-AD66-674CF0D6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B85-C08F-44F1-811C-8D9D4A21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625-6F4D-4AE7-A1FD-413211A7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B9D-CC9E-4C11-B8D9-23847E3A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7E9-1FB2-44B5-9CC9-F36DBB6D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5AD-E984-4994-BBE1-23785CF9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6BAFA-B714-42A9-BDEF-10B17CBD7F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