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226819"/>
        <c:axId val="70830077"/>
      </c:barChart>
      <c:catAx>
        <c:axId val="562268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830077"/>
        <c:crosses val="autoZero"/>
        <c:auto val="1"/>
        <c:lblAlgn val="ctr"/>
        <c:lblOffset val="100"/>
        <c:noMultiLvlLbl val="0"/>
      </c:catAx>
      <c:valAx>
        <c:axId val="70830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268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1FAF-EDC7-4420-8350-679A8C7A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903-64E6-45E3-80AB-DEB58E65B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8837-9B89-46A1-9AE8-4917C17F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5A1-E703-4065-A3FC-A7598AC0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113-4EA4-431E-824B-0BCED96FA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909-129E-4F4C-A58B-7E2AAA09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B12-E74E-4E5B-9B85-3640F5F1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D28-8A7D-45CB-9BDC-4B117896B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57C8-B5BE-40C3-A689-4AD6411B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2D2-79D8-4ECC-AA4A-4CA8F521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F6B4-5973-4A49-9466-CB0A71D6B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D35-449B-41D3-9819-0FAD3515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D968F-C0C1-4217-B836-39BF1B47C4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