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81840"/>
        <c:axId val="52826282"/>
      </c:barChart>
      <c:catAx>
        <c:axId val="57481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26282"/>
        <c:crosses val="autoZero"/>
        <c:auto val="1"/>
        <c:lblAlgn val="ctr"/>
        <c:lblOffset val="100"/>
        <c:noMultiLvlLbl val="0"/>
      </c:catAx>
      <c:valAx>
        <c:axId val="52826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1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2A7-8A0A-459D-AC1C-11A8DB3E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740-E706-4230-800B-487A20C3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729-0D4E-4B3B-9404-EEBD4497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B37-C731-4F76-AC26-FBE7DC3B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E5A-E596-434B-BC5A-B1685205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267-521C-4742-8B1C-08D258D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ACF-869C-44EF-A38B-2FB8FC7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ADB-C790-42B7-B0D4-BDC0EA84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FF4-973E-48E2-8C2D-1D98635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16E-BC8B-40D0-948E-39B2593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B28-DE0F-4CBD-9A65-6FBC2C1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651-74A1-48AB-BFBC-FF52905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3E730-BD36-4F0B-A79D-AFD7341C52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