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29412"/>
        <c:axId val="15458934"/>
      </c:barChart>
      <c:catAx>
        <c:axId val="38429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8934"/>
        <c:crosses val="autoZero"/>
        <c:auto val="1"/>
        <c:lblAlgn val="ctr"/>
        <c:lblOffset val="100"/>
        <c:noMultiLvlLbl val="0"/>
      </c:catAx>
      <c:valAx>
        <c:axId val="15458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29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D19-FF93-4DDE-B872-D52A9A1C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E8E-3606-4B04-9ED4-BEF983F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502-0C41-4604-BB91-77426B0F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CA9-D28C-4EDC-839D-CC83A63C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57A-A5DF-42C7-BE86-5F67B749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B1E-3F7F-44C5-AFEC-30477597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A30-E315-409B-A193-C56AEDA6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E6B-BE7F-4DED-92E0-4F73E8D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5DA-5EA3-483D-B728-0241C6C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850-4DC8-47AF-B20A-7281686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88A-0BED-44ED-ACF2-8682186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80B-F7A3-4272-AC13-BB031FA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05C18-9032-4AFE-A1BA-CBF471E147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