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79040"/>
        <c:axId val="77963637"/>
      </c:barChart>
      <c:catAx>
        <c:axId val="279790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3637"/>
        <c:crosses val="autoZero"/>
        <c:auto val="1"/>
        <c:lblAlgn val="ctr"/>
        <c:lblOffset val="100"/>
        <c:noMultiLvlLbl val="0"/>
      </c:catAx>
      <c:valAx>
        <c:axId val="77963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90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D66-A946-4105-8B86-311FBE42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DD1-E5B0-4D7D-B1C6-C86F9F9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E92-E826-4933-B4DE-1BF5AF2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2E6-C323-409A-8DA4-8467364A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660-C2E3-43A0-AF90-0AAFEF18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22E-8442-4DB1-B498-8691847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BD6-2DA5-4B52-8E62-B715CDE4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79F-AD58-40D1-AEAD-92A0961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502-6A99-472D-A00B-F0CC8ED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BC0-3419-48DF-8697-A99E2DC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DA3-B2F0-4A75-BB8A-2A58199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780-8052-490F-B881-D85B19C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33FF7-3A9B-4C9F-BFFA-98272FE0E9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