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224671"/>
        <c:axId val="79879777"/>
      </c:barChart>
      <c:catAx>
        <c:axId val="612246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79777"/>
        <c:crosses val="autoZero"/>
        <c:auto val="1"/>
        <c:lblAlgn val="ctr"/>
        <c:lblOffset val="100"/>
        <c:noMultiLvlLbl val="0"/>
      </c:catAx>
      <c:valAx>
        <c:axId val="798797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246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2683-4B04-47B6-9D30-92791F688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303F-F7EB-4B27-AC27-4DB5612B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77FF-7CE2-45EC-9918-9658EDDAE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B0D7-9F90-4F87-B3D6-66670299B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6419-1B04-4F2C-AF45-774B33C9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53CA-6F67-4342-B6A2-01BC912E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E70B-861E-4BAD-BB59-50FDA9B7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C68F-0EF7-4167-98DB-43E57D78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D817-C41A-4940-9C80-CA84AF2A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F890-0482-40F3-A557-D9FBFAC0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B949-6BF6-4D0E-866F-9C20B118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595B-A410-4C29-BFC1-3AC4DDFE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D98DE-A6FB-46AF-9D95-76C239AFBB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