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43616"/>
        <c:axId val="51457193"/>
      </c:barChart>
      <c:catAx>
        <c:axId val="26643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57193"/>
        <c:crosses val="autoZero"/>
        <c:auto val="1"/>
        <c:lblAlgn val="ctr"/>
        <c:lblOffset val="100"/>
        <c:noMultiLvlLbl val="0"/>
      </c:catAx>
      <c:valAx>
        <c:axId val="51457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43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B45-636F-485C-9CD9-95A28D98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9EB-9BB4-4178-BEB9-457EFBA7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42B-369F-483F-9C72-A25E4D55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D3E-1DDA-4AEF-9978-550E98EE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104-C591-45C3-8609-EFC36DCC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BAB-52F8-4C53-8C74-D8D1E924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D37-3190-4091-98EA-CB435524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C21-8C97-4295-936F-78F13BCA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2AF-411B-4E60-A25F-80D8BE0B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422-1565-4A68-A3A2-3B9D01DE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298-15A1-4F97-B87F-6D5B3F0C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57F-C8F1-4947-BB5F-CE13DE9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74B00-11E5-41FA-8C90-9423E2C163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