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88482"/>
        <c:axId val="78804633"/>
      </c:barChart>
      <c:catAx>
        <c:axId val="62388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04633"/>
        <c:crosses val="autoZero"/>
        <c:auto val="1"/>
        <c:lblAlgn val="ctr"/>
        <c:lblOffset val="100"/>
        <c:noMultiLvlLbl val="0"/>
      </c:catAx>
      <c:valAx>
        <c:axId val="78804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88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8B7-B773-4B9D-97B9-641BB6DC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7DC-6D9A-44EF-83CE-E8BB0FA2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CE1-696A-45E2-82E8-27D377AA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903-F1E9-45ED-A662-35AFB5DB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2E4-9F9C-4A7B-857B-EDAF507C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A22-8372-4EA2-9168-B55DC9E1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A51-E46A-483C-91DB-52796A00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33B-6035-4E0A-973C-B7949E13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FE6-773E-4C05-8434-FA0D658C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4A7-C7C8-4787-8BEA-DD9F4850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AD5-F757-4A8E-B466-F3F47FCF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570-C13C-44CE-A0C8-F515ACB5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4751F-5E85-4ABC-AF22-3B0A1D81B0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