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34883"/>
        <c:axId val="79167847"/>
      </c:barChart>
      <c:catAx>
        <c:axId val="34134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67847"/>
        <c:crosses val="autoZero"/>
        <c:auto val="1"/>
        <c:lblAlgn val="ctr"/>
        <c:lblOffset val="100"/>
        <c:noMultiLvlLbl val="0"/>
      </c:catAx>
      <c:valAx>
        <c:axId val="79167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34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743-292C-4F2E-8C26-30EB30CD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802-188F-4C30-8812-20BAFD37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95D-6C72-42CD-8AA2-D78E781E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B43-E08D-4D07-9AFA-C9CC5B9C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9FD-F16A-49DE-B4A6-D722166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FFB-670B-4978-9BC7-2C19ADE7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78B-DBDB-4594-AD57-CFCB5010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47B-45F4-4CC2-AFD5-BD3E2973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1F7-5ED4-462D-9FA1-338D645F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6EE-304D-4EA7-AEB5-95723DBB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E46-9CB4-4A75-A251-1B0970E2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F89-DB4E-4426-B2E8-0B4CC3B8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16014-50B0-4112-B48C-8717FA15A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