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79505"/>
        <c:axId val="71763100"/>
      </c:barChart>
      <c:catAx>
        <c:axId val="84879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63100"/>
        <c:crosses val="autoZero"/>
        <c:auto val="1"/>
        <c:lblAlgn val="ctr"/>
        <c:lblOffset val="100"/>
        <c:noMultiLvlLbl val="0"/>
      </c:catAx>
      <c:valAx>
        <c:axId val="71763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79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E78-6AEA-4A51-964D-ECD64614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E5F-C9C1-466F-A423-5E94C5A5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F47-779B-43BB-8856-F9AC50E0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59C-8C9D-4E37-A480-DC13D20C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55D4-9930-4CDB-8F41-84EF77BB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8CE-131A-4013-8116-1830A135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23F-27EA-45C3-99B4-A549709C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BE1-6CBD-4C9C-8EBA-0EB5DE05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D54-1440-4864-95C4-B0426221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6998-6A8A-477B-9E3F-6060F59B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253-204E-4216-8351-7573DE9D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8BE-065E-461C-8B64-87A9C57C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63F9A-203E-4DED-82EC-9AD05C496E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