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6EFD-ACF6-4EC2-A7BD-0BB00F6EA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BD9F-26F7-4E51-BF96-EA0D1A8D2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96F7-6A1B-4754-9340-0DA977B66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89C0-92B6-471B-BF45-8CC55B747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0D33-8ABE-42A7-A48A-014443873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92A2-CC2F-4DB1-B148-45E552D1E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B77B-759D-485F-A768-6B12E5820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6C06-452F-4442-BCDF-FD8C988E3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4465-F966-443F-9B4A-9E9DB9F96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55FA-226B-48B5-A73F-BA94FD990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8C61-354B-4F47-A346-05B5D927D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6B21-2175-4F2F-96DF-98520DFAE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2C86871-0852-4EB7-BA68-7288F7985B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120" cy="593280"/>
            <a:chOff x="2013120" y="1668600"/>
            <a:chExt cx="501120" cy="59328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8480"/>
            <a:ext cx="1295640" cy="5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120" cy="593280"/>
            <a:chOff x="6046920" y="1668600"/>
            <a:chExt cx="501120" cy="59328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4600"/>
            <a:ext cx="40644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492360" y="1915920"/>
            <a:ext cx="503280" cy="1153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995640" y="1916280"/>
            <a:ext cx="1800" cy="14666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6974600">
            <a:off x="3647520" y="2325240"/>
            <a:ext cx="279720" cy="28908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1284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38400" y="338148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983040" y="307512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479400" y="1601640"/>
            <a:ext cx="92556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992040" y="1601640"/>
            <a:ext cx="42732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411800" y="160452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052800" y="190296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049560" y="190800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9560" y="159228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4204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9132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21120000">
            <a:off x="291600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492360" y="2274480"/>
            <a:ext cx="935280" cy="79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427640" y="2274480"/>
            <a:ext cx="1440" cy="14432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4924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427640" y="1843200"/>
            <a:ext cx="504720" cy="4348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8484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701800" y="3933720"/>
            <a:ext cx="2311560" cy="1724400"/>
            <a:chOff x="2701800" y="3933720"/>
            <a:chExt cx="2311560" cy="1724400"/>
          </a:xfrm>
        </p:grpSpPr>
        <p:sp>
          <p:nvSpPr>
            <p:cNvPr id="109" name=""/>
            <p:cNvSpPr/>
            <p:nvPr/>
          </p:nvSpPr>
          <p:spPr>
            <a:xfrm flipV="1">
              <a:off x="352188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2188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013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70180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82168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1816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90068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3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9900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60628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270080" y="3933720"/>
            <a:ext cx="2311200" cy="1724400"/>
            <a:chOff x="1270080" y="3933720"/>
            <a:chExt cx="2311200" cy="1724400"/>
          </a:xfrm>
        </p:grpSpPr>
        <p:sp>
          <p:nvSpPr>
            <p:cNvPr id="134" name=""/>
            <p:cNvSpPr/>
            <p:nvPr/>
          </p:nvSpPr>
          <p:spPr>
            <a:xfrm flipV="1">
              <a:off x="208836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08836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692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7008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38996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28608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468600" y="2119320"/>
            <a:ext cx="183060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4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6692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7420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27080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45804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6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15636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6364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21116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6567120" y="3529080"/>
            <a:ext cx="66348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4929120" y="4176720"/>
            <a:ext cx="44784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