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3223"/>
        <c:axId val="15877797"/>
      </c:barChart>
      <c:catAx>
        <c:axId val="57803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7797"/>
        <c:crosses val="autoZero"/>
        <c:auto val="1"/>
        <c:lblAlgn val="ctr"/>
        <c:lblOffset val="100"/>
        <c:noMultiLvlLbl val="0"/>
      </c:catAx>
      <c:valAx>
        <c:axId val="15877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3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647-CE57-465B-BA00-CC246797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078-8C98-4E72-9831-655DA5E0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E60-2335-4E37-AD66-A006948F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B99-82BF-4AE9-B6C4-FC75766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649-C30F-48FF-9A39-989B86D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BEB-8AFE-4DA4-B314-0B326547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3A3-59FC-4007-8CD4-3D5DE58E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34B-5263-402D-9FDE-DC83098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E99-184D-46DA-99E0-D45CF04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C2F-D95D-4FB6-8D95-5444025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F45-8949-4405-A1DD-4075ADB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A64-1267-40FB-B2BA-668B211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E6F2C-BD80-4CB2-A8E7-DB45543A2B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