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62666"/>
        <c:axId val="37411443"/>
      </c:barChart>
      <c:catAx>
        <c:axId val="26962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11443"/>
        <c:crosses val="autoZero"/>
        <c:auto val="1"/>
        <c:lblAlgn val="ctr"/>
        <c:lblOffset val="100"/>
        <c:noMultiLvlLbl val="0"/>
      </c:catAx>
      <c:valAx>
        <c:axId val="37411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62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EEC-0E96-4C3A-8BFB-F9E66829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E7F-F8B4-4E38-89D3-E08AB40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C4E-7505-4318-B24A-AFADA34A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BBE-4CBA-47F4-AD45-95FF21D8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726-3711-4CA5-80F9-8CBB3300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9B6-F81B-4176-BC40-690D93FE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C4F-990C-4C96-9857-7D061AC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7FC-7E3C-4A41-B40D-759103B1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65C-664F-4A03-8CC2-F46D8DE0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719-421B-4F31-AB1C-824B6BD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34C-28EF-4DF8-83DF-1842310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195-BC1F-4B5B-8E43-CB50FAD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B46F0-0AC7-4050-AC73-E26B90FC0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