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13.png" ContentType="image/png"/>
  <Override PartName="/ppt/media/image8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033D5B-F2DC-4217-A45F-F5768EF33B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4F4E11-E442-49DF-9FC4-C478376DAF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FEED11-D3CE-4856-BEDC-8EC602C496C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F99AB1-142D-41D2-9B06-555FB55B2F0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5670C7-DD97-4A18-A7F9-92BCC9EBCEB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2313F9-47B8-443A-9A4E-307B2F893C8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EDCB73-E0D3-4A36-BFBC-5F83B8017C9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324200-DC9F-4613-99F1-7118CA9120E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78DFE0-A546-475D-A96E-13DA62EE73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3461E6-9BD2-4123-B587-4B906A2ACEE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030737-71AE-4A8C-BE9F-5B373F8A703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112376-CF49-4AA3-9889-F7917BF82AF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152280"/>
            <a:ext cx="8839440" cy="9144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51920" y="6595560"/>
            <a:ext cx="54104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457840" y="6595560"/>
            <a:ext cx="609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6C08C-D034-45A3-B264-165BE93983F8}" type="slidenum">
              <a:rPr b="0" lang="en-US" sz="1000" spc="-1" strike="noStrike">
                <a:solidFill>
                  <a:srgbClr val="9c9a9c"/>
                </a:solidFill>
                <a:latin typeface="Tahoma"/>
              </a:rPr>
              <a:t>&lt;number&gt;</a:t>
            </a:fld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..1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99172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6320" y="15228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52280" y="1066680"/>
            <a:ext cx="883944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41907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1" i="1" lang="en-US" sz="44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900" spc="-1" strike="noStrike">
                <a:solidFill>
                  <a:srgbClr val="5f5f5f"/>
                </a:solidFill>
                <a:latin typeface="Century Gothic"/>
              </a:rPr>
              <a:t>Click to edit the outline text format</a:t>
            </a: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  <a:p>
            <a:pPr lvl="1" marL="457200" indent="0" algn="ctr">
              <a:lnSpc>
                <a:spcPct val="8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38080" y="1981080"/>
            <a:ext cx="80773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990000"/>
                </a:solidFill>
                <a:latin typeface="Century Gothic"/>
              </a:rPr>
              <a:t>aspectj tools</a:t>
            </a:r>
            <a:br>
              <a:rPr sz="5400"/>
            </a:br>
            <a:r>
              <a:rPr b="1" i="1" lang="en-US" sz="5400" spc="-1" strike="noStrike">
                <a:solidFill>
                  <a:srgbClr val="990000"/>
                </a:solidFill>
                <a:latin typeface="Century Gothic"/>
                <a:ea typeface="ＭＳ Ｐゴシック"/>
              </a:rPr>
              <a:t>	</a:t>
            </a:r>
            <a:r>
              <a:rPr b="1" i="1" lang="en-US" sz="5400" spc="-1" strike="noStrike">
                <a:solidFill>
                  <a:srgbClr val="990000"/>
                </a:solidFill>
                <a:latin typeface="Century Gothic"/>
              </a:rPr>
              <a:t>new and noteworth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09480" y="4191120"/>
            <a:ext cx="42674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Mik Kers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University of British Columb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2209680" y="5270400"/>
          <a:ext cx="1027080" cy="12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5270400"/>
                    <a:ext cx="1027080" cy="12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3657600" y="5334120"/>
            <a:ext cx="1752480" cy="761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2" name=""/>
          <p:cNvGraphicFramePr/>
          <p:nvPr/>
        </p:nvGraphicFramePr>
        <p:xfrm>
          <a:off x="5715000" y="5334120"/>
          <a:ext cx="1676520" cy="799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15000" y="5334120"/>
                    <a:ext cx="167652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"/>
          <p:cNvSpPr/>
          <p:nvPr/>
        </p:nvSpPr>
        <p:spPr>
          <a:xfrm>
            <a:off x="4343400" y="4191120"/>
            <a:ext cx="42670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Andy Clement, George Harl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IBM Hursley Lab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6"/>
          <a:stretch/>
        </p:blipFill>
        <p:spPr>
          <a:xfrm>
            <a:off x="6477120" y="533520"/>
            <a:ext cx="2133360" cy="1731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82BC9F-E69C-4370-B2F3-0DBD06317553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ngineering challenge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 sets the bar hig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tight integration with the JD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s expect advanced feat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ger pars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 ass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the Java model is not inherently exten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6BE429-460E-4D9A-852A-3DEBEC27574E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Lancaster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ger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cument outline upda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ent ass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lare 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bu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and run to break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BC4924-8B3A-4AE7-8F3C-32855C371E26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380520" y="51814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0000"/>
                </a:solidFill>
                <a:latin typeface="Century Gothic"/>
              </a:rPr>
              <a:t>3. new crosscutting views</a:t>
            </a:r>
            <a:endParaRPr b="1" i="1" lang="en-US" sz="36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46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Listening to user feedback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868680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working with large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ynamic effects of crosscutting can be uncl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osition of advice can be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icipatory des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I design page and bugzilla reports linked from </a:t>
            </a:r>
            <a:r>
              <a:rPr b="0" lang="en-US" sz="2800" spc="-1" strike="noStrike" u="sng">
                <a:solidFill>
                  <a:srgbClr val="666699"/>
                </a:solidFill>
                <a:uFillTx/>
                <a:latin typeface="Arial"/>
                <a:ea typeface="ＭＳ Ｐゴシック"/>
              </a:rPr>
              <a:t>http://eclipse.org/ajd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4572000"/>
            <a:ext cx="86868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636563"/>
                </a:solidFill>
                <a:latin typeface="Arial"/>
              </a:rPr>
              <a:t>I wasn't seeing an advice being executed and the that part of code was little unfamiliar to me. So I had to perform a search to find out the subaspects. If I had the proposed feature, navigating to those aspects would be so much easier. </a:t>
            </a:r>
            <a:r>
              <a:rPr b="0" lang="en-US" sz="2400" spc="-1" strike="noStrike">
                <a:solidFill>
                  <a:srgbClr val="636563"/>
                </a:solidFill>
                <a:latin typeface="Arial"/>
              </a:rPr>
              <a:t> Bugzilla report 509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B566DC-C275-4F72-981B-6ECB88CED2AA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ontrol flow pointcu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cflow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executi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*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SIFMessage.*(..))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 handle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WSIFExcep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3505320" y="2666880"/>
          <a:ext cx="5457600" cy="393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2666880"/>
                    <a:ext cx="5457600" cy="393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4" name=""/>
          <p:cNvGraphicFramePr/>
          <p:nvPr/>
        </p:nvGraphicFramePr>
        <p:xfrm>
          <a:off x="3429000" y="2612880"/>
          <a:ext cx="5541840" cy="398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612880"/>
                    <a:ext cx="5541840" cy="398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56" name=""/>
          <p:cNvGrpSpPr/>
          <p:nvPr/>
        </p:nvGrpSpPr>
        <p:grpSpPr>
          <a:xfrm>
            <a:off x="660240" y="1596960"/>
            <a:ext cx="7315200" cy="790560"/>
            <a:chOff x="660240" y="1596960"/>
            <a:chExt cx="7315200" cy="790560"/>
          </a:xfrm>
        </p:grpSpPr>
        <p:sp>
          <p:nvSpPr>
            <p:cNvPr id="157" name=""/>
            <p:cNvSpPr/>
            <p:nvPr/>
          </p:nvSpPr>
          <p:spPr>
            <a:xfrm>
              <a:off x="660240" y="1930320"/>
              <a:ext cx="7315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49000"/>
            </a:bodyPr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|| </a:t>
              </a: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execution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* WSIFRequest.*(..))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269720" y="159696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228600" y="3048120"/>
            <a:ext cx="289548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will the advice appl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FA3874-1741-486C-AE43-0D3ECE37BCDA}" type="slidenum">
              <a:t>14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ontrol flow pointcu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cflow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executi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*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SIFMessage.*(..))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 handle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WSIFExcep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660240" y="1574640"/>
            <a:ext cx="7315200" cy="790560"/>
            <a:chOff x="660240" y="1574640"/>
            <a:chExt cx="7315200" cy="790560"/>
          </a:xfrm>
        </p:grpSpPr>
        <p:sp>
          <p:nvSpPr>
            <p:cNvPr id="163" name=""/>
            <p:cNvSpPr/>
            <p:nvPr/>
          </p:nvSpPr>
          <p:spPr>
            <a:xfrm>
              <a:off x="660240" y="1908000"/>
              <a:ext cx="7315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49000"/>
            </a:bodyPr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|| </a:t>
              </a: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execution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* WSIFRequest.*(..))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269720" y="157464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228600" y="3048120"/>
            <a:ext cx="289548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w as graph 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d on Eclipse call grap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3505320" y="2666880"/>
          <a:ext cx="5457600" cy="392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2666880"/>
                    <a:ext cx="5457600" cy="392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3429000" y="2612880"/>
          <a:ext cx="5533920" cy="3983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612880"/>
                    <a:ext cx="5533920" cy="398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168FE7-82B2-4CDA-B8AE-713D740B6F5B}" type="slidenum">
              <a:t>15</a:t>
            </a:fld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Multiple advice at same join poin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if my system has many aspec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if their order of execution is releva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660033"/>
                </a:solidFill>
                <a:latin typeface="Courier New"/>
                <a:ea typeface="ＭＳ Ｐゴシック"/>
              </a:rPr>
              <a:t>declar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660033"/>
                </a:solidFill>
                <a:latin typeface="Courier New"/>
                <a:ea typeface="ＭＳ Ｐゴシック"/>
              </a:rPr>
              <a:t>precedenc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: Debug, Coordinato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609480" y="2819520"/>
            <a:ext cx="7696440" cy="374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5CAC34-C304-48E3-98EA-2742CC734715}" type="slidenum">
              <a:t>16</a:t>
            </a:fld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380520" y="5105160"/>
            <a:ext cx="85345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structure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75" name=""/>
          <p:cNvSpPr/>
          <p:nvPr/>
        </p:nvSpPr>
        <p:spPr>
          <a:xfrm>
            <a:off x="380880" y="5791320"/>
            <a:ext cx="86108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wrap-u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xtensibility and contribution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source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APIs for IDE plugins and 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 need contribu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 and views can be reu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152280" y="4041720"/>
          <a:ext cx="8763120" cy="2435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4041720"/>
                    <a:ext cx="8763120" cy="243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D88C20-EF59-4E18-AE22-1F09B15BD9F5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credi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sions 0.1-1.1 developed at PAR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.org Technology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Erik Hilsdale, Jim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ugunin,  Wes Isberg and Mik Ker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Andy Clement, Mik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sten and Julie Water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0" lang="en-US" sz="3200" spc="-1" strike="noStrike">
                <a:solidFill>
                  <a:srgbClr val="6666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jd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AspectJ in Action"/>
          <p:cNvPicPr/>
          <p:nvPr/>
        </p:nvPicPr>
        <p:blipFill>
          <a:blip r:embed="rId1"/>
          <a:stretch/>
        </p:blipFill>
        <p:spPr>
          <a:xfrm>
            <a:off x="6775560" y="1790640"/>
            <a:ext cx="2063520" cy="247644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6095880" y="4419720"/>
            <a:ext cx="2743200" cy="2057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05D545-5F2C-425F-918E-E85BEFB8FF66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560" y="3428640"/>
            <a:ext cx="8839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1. aspectj tools suite</a:t>
            </a:r>
            <a:endParaRPr b="1" i="1" lang="en-US" sz="40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304560" y="5181480"/>
            <a:ext cx="7551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98" name=""/>
          <p:cNvSpPr/>
          <p:nvPr/>
        </p:nvSpPr>
        <p:spPr>
          <a:xfrm>
            <a:off x="304920" y="4419720"/>
            <a:ext cx="76197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99061B-3175-459C-ACB1-EA162BDEAF4C}" type="slidenum">
              <a:t>20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1.1 tools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ce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confi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tor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 libraries &amp; bytecode wea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S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sualiz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0FC08C-9545-4360-978D-15A963BFF88C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jbuilder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"/>
          <p:cNvSpPr/>
          <p:nvPr/>
        </p:nvSpPr>
        <p:spPr>
          <a:xfrm>
            <a:off x="2168640" y="3763800"/>
            <a:ext cx="655560" cy="363600"/>
          </a:xfrm>
          <a:custGeom>
            <a:avLst/>
            <a:gdLst/>
            <a:ahLst/>
            <a:rect l="l" t="t" r="r" b="b"/>
            <a:pathLst>
              <a:path w="1822" h="1008">
                <a:moveTo>
                  <a:pt x="7826" y="10505"/>
                </a:moveTo>
                <a:cubicBezTo>
                  <a:pt x="7832" y="10497"/>
                  <a:pt x="7838" y="10489"/>
                  <a:pt x="7844" y="10481"/>
                </a:cubicBezTo>
                <a:cubicBezTo>
                  <a:pt x="7805" y="10465"/>
                  <a:pt x="7788" y="10453"/>
                  <a:pt x="7728" y="10458"/>
                </a:cubicBezTo>
                <a:cubicBezTo>
                  <a:pt x="7614" y="10468"/>
                  <a:pt x="7499" y="10497"/>
                  <a:pt x="7390" y="10530"/>
                </a:cubicBezTo>
                <a:cubicBezTo>
                  <a:pt x="7224" y="10580"/>
                  <a:pt x="7068" y="10650"/>
                  <a:pt x="6914" y="10730"/>
                </a:cubicBezTo>
                <a:cubicBezTo>
                  <a:pt x="6669" y="10857"/>
                  <a:pt x="6411" y="11011"/>
                  <a:pt x="6218" y="11212"/>
                </a:cubicBezTo>
                <a:cubicBezTo>
                  <a:pt x="6188" y="11243"/>
                  <a:pt x="6161" y="11281"/>
                  <a:pt x="6139" y="11318"/>
                </a:cubicBezTo>
                <a:cubicBezTo>
                  <a:pt x="6136" y="11325"/>
                  <a:pt x="6134" y="11331"/>
                  <a:pt x="6131" y="11338"/>
                </a:cubicBezTo>
              </a:path>
              <a:path w="1822" h="1008">
                <a:moveTo>
                  <a:pt x="6056" y="11147"/>
                </a:moveTo>
                <a:cubicBezTo>
                  <a:pt x="6055" y="11194"/>
                  <a:pt x="6044" y="11238"/>
                  <a:pt x="6036" y="11284"/>
                </a:cubicBezTo>
                <a:cubicBezTo>
                  <a:pt x="6028" y="11330"/>
                  <a:pt x="6014" y="11384"/>
                  <a:pt x="6027" y="11430"/>
                </a:cubicBezTo>
                <a:cubicBezTo>
                  <a:pt x="6041" y="11481"/>
                  <a:pt x="6095" y="11461"/>
                  <a:pt x="6132" y="11452"/>
                </a:cubicBezTo>
                <a:cubicBezTo>
                  <a:pt x="6204" y="11435"/>
                  <a:pt x="6272" y="11406"/>
                  <a:pt x="6341" y="11381"/>
                </a:cubicBezTo>
                <a:cubicBezTo>
                  <a:pt x="6359" y="11375"/>
                  <a:pt x="6378" y="11368"/>
                  <a:pt x="6396" y="1136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675240" y="3665520"/>
            <a:ext cx="544320" cy="1184400"/>
          </a:xfrm>
          <a:custGeom>
            <a:avLst/>
            <a:gdLst/>
            <a:ahLst/>
            <a:rect l="l" t="t" r="r" b="b"/>
            <a:pathLst>
              <a:path w="1511" h="3291">
                <a:moveTo>
                  <a:pt x="10209" y="10222"/>
                </a:moveTo>
                <a:cubicBezTo>
                  <a:pt x="10208" y="10205"/>
                  <a:pt x="10208" y="10200"/>
                  <a:pt x="10209" y="10189"/>
                </a:cubicBezTo>
                <a:cubicBezTo>
                  <a:pt x="10237" y="10205"/>
                  <a:pt x="10269" y="10210"/>
                  <a:pt x="10304" y="10245"/>
                </a:cubicBezTo>
                <a:cubicBezTo>
                  <a:pt x="10714" y="10654"/>
                  <a:pt x="10944" y="11227"/>
                  <a:pt x="11120" y="11767"/>
                </a:cubicBezTo>
                <a:cubicBezTo>
                  <a:pt x="11257" y="12189"/>
                  <a:pt x="11389" y="12609"/>
                  <a:pt x="11512" y="13034"/>
                </a:cubicBezTo>
                <a:cubicBezTo>
                  <a:pt x="11519" y="13057"/>
                  <a:pt x="11527" y="13080"/>
                  <a:pt x="11534" y="13103"/>
                </a:cubicBezTo>
              </a:path>
              <a:path w="1511" h="3291">
                <a:moveTo>
                  <a:pt x="11273" y="13026"/>
                </a:moveTo>
                <a:cubicBezTo>
                  <a:pt x="11304" y="12997"/>
                  <a:pt x="11329" y="13051"/>
                  <a:pt x="11353" y="13083"/>
                </a:cubicBezTo>
                <a:cubicBezTo>
                  <a:pt x="11407" y="13154"/>
                  <a:pt x="11452" y="13231"/>
                  <a:pt x="11499" y="13306"/>
                </a:cubicBezTo>
                <a:cubicBezTo>
                  <a:pt x="11528" y="13352"/>
                  <a:pt x="11556" y="13401"/>
                  <a:pt x="11592" y="13442"/>
                </a:cubicBezTo>
                <a:cubicBezTo>
                  <a:pt x="11610" y="13459"/>
                  <a:pt x="11617" y="13465"/>
                  <a:pt x="11634" y="13471"/>
                </a:cubicBezTo>
                <a:cubicBezTo>
                  <a:pt x="11656" y="13435"/>
                  <a:pt x="11658" y="13410"/>
                  <a:pt x="11662" y="13367"/>
                </a:cubicBezTo>
                <a:cubicBezTo>
                  <a:pt x="11668" y="13307"/>
                  <a:pt x="11674" y="13248"/>
                  <a:pt x="11684" y="13189"/>
                </a:cubicBezTo>
                <a:cubicBezTo>
                  <a:pt x="11692" y="13139"/>
                  <a:pt x="11700" y="13088"/>
                  <a:pt x="11709" y="13038"/>
                </a:cubicBezTo>
                <a:cubicBezTo>
                  <a:pt x="11714" y="13011"/>
                  <a:pt x="11715" y="13003"/>
                  <a:pt x="11718" y="1298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882880" y="3311640"/>
            <a:ext cx="1019160" cy="606240"/>
          </a:xfrm>
          <a:custGeom>
            <a:avLst/>
            <a:gdLst/>
            <a:ahLst/>
            <a:rect l="l" t="t" r="r" b="b"/>
            <a:pathLst>
              <a:path w="2830" h="1681">
                <a:moveTo>
                  <a:pt x="8010" y="10880"/>
                </a:moveTo>
                <a:cubicBezTo>
                  <a:pt x="8008" y="10840"/>
                  <a:pt x="8019" y="10810"/>
                  <a:pt x="8033" y="10771"/>
                </a:cubicBezTo>
                <a:cubicBezTo>
                  <a:pt x="8064" y="10685"/>
                  <a:pt x="8100" y="10602"/>
                  <a:pt x="8134" y="10518"/>
                </a:cubicBezTo>
                <a:cubicBezTo>
                  <a:pt x="8169" y="10431"/>
                  <a:pt x="8206" y="10346"/>
                  <a:pt x="8247" y="10262"/>
                </a:cubicBezTo>
                <a:cubicBezTo>
                  <a:pt x="8263" y="10231"/>
                  <a:pt x="8266" y="10225"/>
                  <a:pt x="8277" y="10207"/>
                </a:cubicBezTo>
                <a:cubicBezTo>
                  <a:pt x="8288" y="10260"/>
                  <a:pt x="8283" y="10314"/>
                  <a:pt x="8283" y="10369"/>
                </a:cubicBezTo>
                <a:cubicBezTo>
                  <a:pt x="8283" y="10458"/>
                  <a:pt x="8278" y="10554"/>
                  <a:pt x="8312" y="10638"/>
                </a:cubicBezTo>
                <a:cubicBezTo>
                  <a:pt x="8313" y="10641"/>
                  <a:pt x="8347" y="10714"/>
                  <a:pt x="8328" y="10663"/>
                </a:cubicBezTo>
              </a:path>
              <a:path w="2830" h="1681">
                <a:moveTo>
                  <a:pt x="8156" y="10564"/>
                </a:moveTo>
                <a:cubicBezTo>
                  <a:pt x="8153" y="10558"/>
                  <a:pt x="8150" y="10553"/>
                  <a:pt x="8147" y="10547"/>
                </a:cubicBezTo>
                <a:cubicBezTo>
                  <a:pt x="8185" y="10532"/>
                  <a:pt x="8223" y="10523"/>
                  <a:pt x="8260" y="10505"/>
                </a:cubicBezTo>
                <a:cubicBezTo>
                  <a:pt x="8320" y="10476"/>
                  <a:pt x="8368" y="10436"/>
                  <a:pt x="8417" y="10392"/>
                </a:cubicBezTo>
              </a:path>
              <a:path w="2830" h="1681">
                <a:moveTo>
                  <a:pt x="8570" y="10161"/>
                </a:moveTo>
                <a:cubicBezTo>
                  <a:pt x="8588" y="10212"/>
                  <a:pt x="8582" y="10257"/>
                  <a:pt x="8585" y="10313"/>
                </a:cubicBezTo>
                <a:cubicBezTo>
                  <a:pt x="8588" y="10364"/>
                  <a:pt x="8593" y="10416"/>
                  <a:pt x="8603" y="10466"/>
                </a:cubicBezTo>
                <a:cubicBezTo>
                  <a:pt x="8605" y="10472"/>
                  <a:pt x="8606" y="10479"/>
                  <a:pt x="8608" y="10485"/>
                </a:cubicBezTo>
              </a:path>
              <a:path w="2830" h="1681">
                <a:moveTo>
                  <a:pt x="8520" y="10173"/>
                </a:moveTo>
                <a:cubicBezTo>
                  <a:pt x="8534" y="10119"/>
                  <a:pt x="8557" y="10090"/>
                  <a:pt x="8615" y="10079"/>
                </a:cubicBezTo>
                <a:cubicBezTo>
                  <a:pt x="8659" y="10070"/>
                  <a:pt x="8714" y="10073"/>
                  <a:pt x="8750" y="10103"/>
                </a:cubicBezTo>
                <a:cubicBezTo>
                  <a:pt x="8790" y="10137"/>
                  <a:pt x="8791" y="10202"/>
                  <a:pt x="8783" y="10249"/>
                </a:cubicBezTo>
                <a:cubicBezTo>
                  <a:pt x="8772" y="10314"/>
                  <a:pt x="8735" y="10381"/>
                  <a:pt x="8697" y="10434"/>
                </a:cubicBezTo>
                <a:cubicBezTo>
                  <a:pt x="8678" y="10461"/>
                  <a:pt x="8643" y="10508"/>
                  <a:pt x="8608" y="10517"/>
                </a:cubicBezTo>
                <a:cubicBezTo>
                  <a:pt x="8601" y="10517"/>
                  <a:pt x="8595" y="10517"/>
                  <a:pt x="8588" y="10517"/>
                </a:cubicBezTo>
              </a:path>
              <a:path w="2830" h="1681">
                <a:moveTo>
                  <a:pt x="8965" y="10060"/>
                </a:moveTo>
                <a:cubicBezTo>
                  <a:pt x="8975" y="10055"/>
                  <a:pt x="8984" y="10049"/>
                  <a:pt x="8994" y="10044"/>
                </a:cubicBezTo>
                <a:cubicBezTo>
                  <a:pt x="9034" y="10081"/>
                  <a:pt x="9034" y="10109"/>
                  <a:pt x="9044" y="10163"/>
                </a:cubicBezTo>
                <a:cubicBezTo>
                  <a:pt x="9055" y="10220"/>
                  <a:pt x="9057" y="10281"/>
                  <a:pt x="9105" y="10316"/>
                </a:cubicBezTo>
                <a:cubicBezTo>
                  <a:pt x="9161" y="10287"/>
                  <a:pt x="9187" y="10242"/>
                  <a:pt x="9217" y="10185"/>
                </a:cubicBezTo>
                <a:cubicBezTo>
                  <a:pt x="9260" y="10105"/>
                  <a:pt x="9294" y="10021"/>
                  <a:pt x="9323" y="9935"/>
                </a:cubicBezTo>
                <a:cubicBezTo>
                  <a:pt x="9336" y="9898"/>
                  <a:pt x="9371" y="9829"/>
                  <a:pt x="9330" y="9834"/>
                </a:cubicBezTo>
              </a:path>
              <a:path w="2830" h="1681">
                <a:moveTo>
                  <a:pt x="9573" y="9780"/>
                </a:moveTo>
                <a:cubicBezTo>
                  <a:pt x="9579" y="9759"/>
                  <a:pt x="9581" y="9753"/>
                  <a:pt x="9585" y="9740"/>
                </a:cubicBezTo>
                <a:cubicBezTo>
                  <a:pt x="9587" y="9796"/>
                  <a:pt x="9584" y="9853"/>
                  <a:pt x="9588" y="9909"/>
                </a:cubicBezTo>
                <a:cubicBezTo>
                  <a:pt x="9591" y="9961"/>
                  <a:pt x="9598" y="10020"/>
                  <a:pt x="9615" y="10070"/>
                </a:cubicBezTo>
                <a:cubicBezTo>
                  <a:pt x="9624" y="10087"/>
                  <a:pt x="9627" y="10093"/>
                  <a:pt x="9643" y="10088"/>
                </a:cubicBezTo>
              </a:path>
              <a:path w="2830" h="1681">
                <a:moveTo>
                  <a:pt x="9985" y="9637"/>
                </a:moveTo>
                <a:cubicBezTo>
                  <a:pt x="9991" y="9618"/>
                  <a:pt x="9993" y="9611"/>
                  <a:pt x="9981" y="9599"/>
                </a:cubicBezTo>
                <a:cubicBezTo>
                  <a:pt x="9940" y="9614"/>
                  <a:pt x="9909" y="9641"/>
                  <a:pt x="9882" y="9676"/>
                </a:cubicBezTo>
                <a:cubicBezTo>
                  <a:pt x="9838" y="9734"/>
                  <a:pt x="9796" y="9817"/>
                  <a:pt x="9812" y="9892"/>
                </a:cubicBezTo>
                <a:cubicBezTo>
                  <a:pt x="9824" y="9948"/>
                  <a:pt x="9874" y="9967"/>
                  <a:pt x="9926" y="9956"/>
                </a:cubicBezTo>
                <a:cubicBezTo>
                  <a:pt x="10018" y="9937"/>
                  <a:pt x="10089" y="9859"/>
                  <a:pt x="10150" y="9794"/>
                </a:cubicBezTo>
              </a:path>
              <a:path w="2830" h="1681">
                <a:moveTo>
                  <a:pt x="10290" y="9516"/>
                </a:moveTo>
                <a:cubicBezTo>
                  <a:pt x="10259" y="9575"/>
                  <a:pt x="10231" y="9642"/>
                  <a:pt x="10222" y="9709"/>
                </a:cubicBezTo>
                <a:cubicBezTo>
                  <a:pt x="10217" y="9751"/>
                  <a:pt x="10218" y="9808"/>
                  <a:pt x="10265" y="9826"/>
                </a:cubicBezTo>
                <a:cubicBezTo>
                  <a:pt x="10311" y="9843"/>
                  <a:pt x="10368" y="9817"/>
                  <a:pt x="10406" y="9794"/>
                </a:cubicBezTo>
                <a:cubicBezTo>
                  <a:pt x="10449" y="9768"/>
                  <a:pt x="10472" y="9735"/>
                  <a:pt x="10491" y="9690"/>
                </a:cubicBezTo>
              </a:path>
              <a:path w="2830" h="1681">
                <a:moveTo>
                  <a:pt x="10304" y="9592"/>
                </a:moveTo>
                <a:cubicBezTo>
                  <a:pt x="10282" y="9603"/>
                  <a:pt x="10274" y="9608"/>
                  <a:pt x="10264" y="9622"/>
                </a:cubicBezTo>
                <a:cubicBezTo>
                  <a:pt x="10301" y="9641"/>
                  <a:pt x="10329" y="9634"/>
                  <a:pt x="10370" y="9623"/>
                </a:cubicBezTo>
                <a:cubicBezTo>
                  <a:pt x="10412" y="9612"/>
                  <a:pt x="10460" y="9604"/>
                  <a:pt x="10494" y="9575"/>
                </a:cubicBezTo>
                <a:cubicBezTo>
                  <a:pt x="10499" y="9570"/>
                  <a:pt x="10503" y="9564"/>
                  <a:pt x="10508" y="9559"/>
                </a:cubicBezTo>
              </a:path>
              <a:path w="2830" h="1681">
                <a:moveTo>
                  <a:pt x="10306" y="9413"/>
                </a:moveTo>
                <a:cubicBezTo>
                  <a:pt x="10304" y="9404"/>
                  <a:pt x="10383" y="9387"/>
                  <a:pt x="10422" y="9373"/>
                </a:cubicBezTo>
                <a:cubicBezTo>
                  <a:pt x="10516" y="9338"/>
                  <a:pt x="10608" y="9299"/>
                  <a:pt x="10700" y="9260"/>
                </a:cubicBezTo>
                <a:cubicBezTo>
                  <a:pt x="10769" y="9230"/>
                  <a:pt x="10791" y="9220"/>
                  <a:pt x="10836" y="920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100320" y="4468680"/>
            <a:ext cx="486000" cy="1762200"/>
          </a:xfrm>
          <a:custGeom>
            <a:avLst/>
            <a:gdLst/>
            <a:ahLst/>
            <a:rect l="l" t="t" r="r" b="b"/>
            <a:pathLst>
              <a:path w="1350" h="4894">
                <a:moveTo>
                  <a:pt x="9040" y="17288"/>
                </a:moveTo>
                <a:cubicBezTo>
                  <a:pt x="9099" y="17290"/>
                  <a:pt x="9136" y="17303"/>
                  <a:pt x="9205" y="17286"/>
                </a:cubicBezTo>
                <a:cubicBezTo>
                  <a:pt x="9452" y="17223"/>
                  <a:pt x="9729" y="17002"/>
                  <a:pt x="9735" y="16730"/>
                </a:cubicBezTo>
                <a:cubicBezTo>
                  <a:pt x="9740" y="16499"/>
                  <a:pt x="9514" y="16248"/>
                  <a:pt x="9657" y="16023"/>
                </a:cubicBezTo>
                <a:cubicBezTo>
                  <a:pt x="9726" y="15914"/>
                  <a:pt x="9852" y="15919"/>
                  <a:pt x="9962" y="15901"/>
                </a:cubicBezTo>
                <a:cubicBezTo>
                  <a:pt x="9917" y="15878"/>
                  <a:pt x="9861" y="15866"/>
                  <a:pt x="9820" y="15832"/>
                </a:cubicBezTo>
                <a:cubicBezTo>
                  <a:pt x="9704" y="15734"/>
                  <a:pt x="9648" y="15536"/>
                  <a:pt x="9628" y="15393"/>
                </a:cubicBezTo>
                <a:cubicBezTo>
                  <a:pt x="9566" y="14958"/>
                  <a:pt x="9761" y="14517"/>
                  <a:pt x="9801" y="14087"/>
                </a:cubicBezTo>
                <a:cubicBezTo>
                  <a:pt x="9835" y="13724"/>
                  <a:pt x="9844" y="13263"/>
                  <a:pt x="9678" y="12928"/>
                </a:cubicBezTo>
                <a:cubicBezTo>
                  <a:pt x="9538" y="12644"/>
                  <a:pt x="9220" y="12555"/>
                  <a:pt x="8936" y="12484"/>
                </a:cubicBezTo>
                <a:cubicBezTo>
                  <a:pt x="8829" y="12457"/>
                  <a:pt x="8721" y="12436"/>
                  <a:pt x="8613" y="12413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700440" y="5724360"/>
            <a:ext cx="1044720" cy="225720"/>
          </a:xfrm>
          <a:custGeom>
            <a:avLst/>
            <a:gdLst/>
            <a:ahLst/>
            <a:rect l="l" t="t" r="r" b="b"/>
            <a:pathLst>
              <a:path w="2903" h="627">
                <a:moveTo>
                  <a:pt x="10279" y="16528"/>
                </a:moveTo>
                <a:cubicBezTo>
                  <a:pt x="10293" y="16432"/>
                  <a:pt x="10352" y="16363"/>
                  <a:pt x="10413" y="16290"/>
                </a:cubicBezTo>
                <a:cubicBezTo>
                  <a:pt x="10466" y="16227"/>
                  <a:pt x="10517" y="16163"/>
                  <a:pt x="10571" y="16102"/>
                </a:cubicBezTo>
                <a:cubicBezTo>
                  <a:pt x="10595" y="16075"/>
                  <a:pt x="10617" y="16047"/>
                  <a:pt x="10641" y="16021"/>
                </a:cubicBezTo>
                <a:cubicBezTo>
                  <a:pt x="10644" y="16074"/>
                  <a:pt x="10631" y="16121"/>
                  <a:pt x="10621" y="16174"/>
                </a:cubicBezTo>
                <a:cubicBezTo>
                  <a:pt x="10611" y="16229"/>
                  <a:pt x="10608" y="16280"/>
                  <a:pt x="10606" y="16335"/>
                </a:cubicBezTo>
                <a:cubicBezTo>
                  <a:pt x="10604" y="16356"/>
                  <a:pt x="10604" y="16362"/>
                  <a:pt x="10603" y="16375"/>
                </a:cubicBezTo>
              </a:path>
              <a:path w="2903" h="627">
                <a:moveTo>
                  <a:pt x="10446" y="16254"/>
                </a:moveTo>
                <a:cubicBezTo>
                  <a:pt x="10481" y="16249"/>
                  <a:pt x="10515" y="16250"/>
                  <a:pt x="10550" y="16248"/>
                </a:cubicBezTo>
                <a:cubicBezTo>
                  <a:pt x="10593" y="16245"/>
                  <a:pt x="10639" y="16242"/>
                  <a:pt x="10681" y="16231"/>
                </a:cubicBezTo>
                <a:cubicBezTo>
                  <a:pt x="10711" y="16221"/>
                  <a:pt x="10721" y="16218"/>
                  <a:pt x="10740" y="16209"/>
                </a:cubicBezTo>
              </a:path>
              <a:path w="2903" h="627">
                <a:moveTo>
                  <a:pt x="10899" y="16084"/>
                </a:moveTo>
                <a:cubicBezTo>
                  <a:pt x="10882" y="16132"/>
                  <a:pt x="10854" y="16173"/>
                  <a:pt x="10832" y="16220"/>
                </a:cubicBezTo>
                <a:cubicBezTo>
                  <a:pt x="10827" y="16230"/>
                  <a:pt x="10779" y="16325"/>
                  <a:pt x="10789" y="16335"/>
                </a:cubicBezTo>
                <a:cubicBezTo>
                  <a:pt x="10795" y="16334"/>
                  <a:pt x="10802" y="16334"/>
                  <a:pt x="10808" y="16333"/>
                </a:cubicBezTo>
              </a:path>
              <a:path w="2903" h="627">
                <a:moveTo>
                  <a:pt x="10834" y="16102"/>
                </a:moveTo>
                <a:cubicBezTo>
                  <a:pt x="10828" y="16095"/>
                  <a:pt x="10823" y="16089"/>
                  <a:pt x="10817" y="16082"/>
                </a:cubicBezTo>
                <a:cubicBezTo>
                  <a:pt x="10848" y="16063"/>
                  <a:pt x="10881" y="16060"/>
                  <a:pt x="10916" y="16048"/>
                </a:cubicBezTo>
                <a:cubicBezTo>
                  <a:pt x="10963" y="16031"/>
                  <a:pt x="11012" y="16014"/>
                  <a:pt x="11058" y="15994"/>
                </a:cubicBezTo>
                <a:cubicBezTo>
                  <a:pt x="11066" y="15990"/>
                  <a:pt x="11074" y="15986"/>
                  <a:pt x="11082" y="15982"/>
                </a:cubicBezTo>
              </a:path>
              <a:path w="2903" h="627">
                <a:moveTo>
                  <a:pt x="10856" y="16188"/>
                </a:moveTo>
                <a:cubicBezTo>
                  <a:pt x="10843" y="16221"/>
                  <a:pt x="10847" y="16233"/>
                  <a:pt x="10887" y="16232"/>
                </a:cubicBezTo>
                <a:cubicBezTo>
                  <a:pt x="10929" y="16231"/>
                  <a:pt x="10975" y="16217"/>
                  <a:pt x="11013" y="16200"/>
                </a:cubicBezTo>
                <a:cubicBezTo>
                  <a:pt x="11043" y="16187"/>
                  <a:pt x="11065" y="16171"/>
                  <a:pt x="11090" y="16151"/>
                </a:cubicBezTo>
              </a:path>
              <a:path w="2903" h="627">
                <a:moveTo>
                  <a:pt x="11163" y="16057"/>
                </a:moveTo>
                <a:cubicBezTo>
                  <a:pt x="11162" y="16098"/>
                  <a:pt x="11145" y="16128"/>
                  <a:pt x="11132" y="16168"/>
                </a:cubicBezTo>
                <a:cubicBezTo>
                  <a:pt x="11119" y="16210"/>
                  <a:pt x="11107" y="16252"/>
                  <a:pt x="11093" y="16293"/>
                </a:cubicBezTo>
                <a:cubicBezTo>
                  <a:pt x="11091" y="16299"/>
                  <a:pt x="11088" y="16305"/>
                  <a:pt x="11086" y="16311"/>
                </a:cubicBezTo>
              </a:path>
              <a:path w="2903" h="627">
                <a:moveTo>
                  <a:pt x="11143" y="16062"/>
                </a:moveTo>
                <a:cubicBezTo>
                  <a:pt x="11155" y="16018"/>
                  <a:pt x="11174" y="16003"/>
                  <a:pt x="11219" y="15986"/>
                </a:cubicBezTo>
                <a:cubicBezTo>
                  <a:pt x="11262" y="15969"/>
                  <a:pt x="11308" y="15958"/>
                  <a:pt x="11354" y="15949"/>
                </a:cubicBezTo>
                <a:cubicBezTo>
                  <a:pt x="11380" y="15944"/>
                  <a:pt x="11407" y="15941"/>
                  <a:pt x="11434" y="15937"/>
                </a:cubicBezTo>
              </a:path>
              <a:path w="2903" h="627">
                <a:moveTo>
                  <a:pt x="11198" y="16179"/>
                </a:moveTo>
                <a:cubicBezTo>
                  <a:pt x="11191" y="16187"/>
                  <a:pt x="11184" y="16195"/>
                  <a:pt x="11177" y="16203"/>
                </a:cubicBezTo>
                <a:cubicBezTo>
                  <a:pt x="11222" y="16210"/>
                  <a:pt x="11258" y="16203"/>
                  <a:pt x="11303" y="16198"/>
                </a:cubicBezTo>
                <a:cubicBezTo>
                  <a:pt x="11347" y="16193"/>
                  <a:pt x="11390" y="16188"/>
                  <a:pt x="11433" y="16181"/>
                </a:cubicBezTo>
              </a:path>
              <a:path w="2903" h="627">
                <a:moveTo>
                  <a:pt x="11556" y="16070"/>
                </a:moveTo>
                <a:cubicBezTo>
                  <a:pt x="11549" y="16098"/>
                  <a:pt x="11540" y="16126"/>
                  <a:pt x="11534" y="16154"/>
                </a:cubicBezTo>
                <a:cubicBezTo>
                  <a:pt x="11528" y="16184"/>
                  <a:pt x="11507" y="16261"/>
                  <a:pt x="11540" y="16283"/>
                </a:cubicBezTo>
                <a:cubicBezTo>
                  <a:pt x="11567" y="16301"/>
                  <a:pt x="11623" y="16278"/>
                  <a:pt x="11646" y="16265"/>
                </a:cubicBezTo>
                <a:cubicBezTo>
                  <a:pt x="11678" y="16247"/>
                  <a:pt x="11700" y="16222"/>
                  <a:pt x="11725" y="16196"/>
                </a:cubicBezTo>
              </a:path>
              <a:path w="2903" h="627">
                <a:moveTo>
                  <a:pt x="11582" y="16119"/>
                </a:moveTo>
                <a:cubicBezTo>
                  <a:pt x="11581" y="16156"/>
                  <a:pt x="11594" y="16165"/>
                  <a:pt x="11632" y="16168"/>
                </a:cubicBezTo>
                <a:cubicBezTo>
                  <a:pt x="11666" y="16171"/>
                  <a:pt x="11694" y="16159"/>
                  <a:pt x="11723" y="16143"/>
                </a:cubicBezTo>
              </a:path>
              <a:path w="2903" h="627">
                <a:moveTo>
                  <a:pt x="11578" y="16043"/>
                </a:moveTo>
                <a:cubicBezTo>
                  <a:pt x="11571" y="16045"/>
                  <a:pt x="11564" y="16046"/>
                  <a:pt x="11557" y="16048"/>
                </a:cubicBezTo>
                <a:cubicBezTo>
                  <a:pt x="11592" y="16044"/>
                  <a:pt x="11625" y="16030"/>
                  <a:pt x="11660" y="16023"/>
                </a:cubicBezTo>
                <a:cubicBezTo>
                  <a:pt x="11717" y="16011"/>
                  <a:pt x="11775" y="16002"/>
                  <a:pt x="11833" y="15993"/>
                </a:cubicBezTo>
              </a:path>
              <a:path w="2903" h="627">
                <a:moveTo>
                  <a:pt x="12059" y="16025"/>
                </a:moveTo>
                <a:cubicBezTo>
                  <a:pt x="12037" y="15984"/>
                  <a:pt x="12010" y="15994"/>
                  <a:pt x="11969" y="16018"/>
                </a:cubicBezTo>
                <a:cubicBezTo>
                  <a:pt x="11918" y="16048"/>
                  <a:pt x="11868" y="16098"/>
                  <a:pt x="11835" y="16148"/>
                </a:cubicBezTo>
                <a:cubicBezTo>
                  <a:pt x="11811" y="16185"/>
                  <a:pt x="11777" y="16246"/>
                  <a:pt x="11816" y="16284"/>
                </a:cubicBezTo>
                <a:cubicBezTo>
                  <a:pt x="11853" y="16320"/>
                  <a:pt x="11922" y="16305"/>
                  <a:pt x="11964" y="16292"/>
                </a:cubicBezTo>
                <a:cubicBezTo>
                  <a:pt x="11981" y="16285"/>
                  <a:pt x="11997" y="16279"/>
                  <a:pt x="12014" y="16272"/>
                </a:cubicBezTo>
              </a:path>
              <a:path w="2903" h="627">
                <a:moveTo>
                  <a:pt x="12358" y="16004"/>
                </a:moveTo>
                <a:cubicBezTo>
                  <a:pt x="12330" y="16047"/>
                  <a:pt x="12296" y="16082"/>
                  <a:pt x="12265" y="16122"/>
                </a:cubicBezTo>
                <a:cubicBezTo>
                  <a:pt x="12230" y="16166"/>
                  <a:pt x="12198" y="16213"/>
                  <a:pt x="12166" y="16260"/>
                </a:cubicBezTo>
              </a:path>
              <a:path w="2903" h="627">
                <a:moveTo>
                  <a:pt x="12112" y="16059"/>
                </a:moveTo>
                <a:cubicBezTo>
                  <a:pt x="12156" y="16046"/>
                  <a:pt x="12201" y="16049"/>
                  <a:pt x="12247" y="16044"/>
                </a:cubicBezTo>
                <a:cubicBezTo>
                  <a:pt x="12314" y="16037"/>
                  <a:pt x="12383" y="16029"/>
                  <a:pt x="12449" y="16018"/>
                </a:cubicBezTo>
                <a:cubicBezTo>
                  <a:pt x="12489" y="16010"/>
                  <a:pt x="12500" y="16008"/>
                  <a:pt x="12524" y="15999"/>
                </a:cubicBezTo>
              </a:path>
              <a:path w="2903" h="627">
                <a:moveTo>
                  <a:pt x="12567" y="15983"/>
                </a:moveTo>
                <a:cubicBezTo>
                  <a:pt x="12542" y="16016"/>
                  <a:pt x="12526" y="16047"/>
                  <a:pt x="12507" y="16084"/>
                </a:cubicBezTo>
                <a:cubicBezTo>
                  <a:pt x="12483" y="16130"/>
                  <a:pt x="12461" y="16175"/>
                  <a:pt x="12456" y="16228"/>
                </a:cubicBezTo>
                <a:cubicBezTo>
                  <a:pt x="12453" y="16260"/>
                  <a:pt x="12460" y="16284"/>
                  <a:pt x="12496" y="16279"/>
                </a:cubicBezTo>
                <a:cubicBezTo>
                  <a:pt x="12541" y="16272"/>
                  <a:pt x="12575" y="16239"/>
                  <a:pt x="12609" y="16211"/>
                </a:cubicBezTo>
              </a:path>
              <a:path w="2903" h="627">
                <a:moveTo>
                  <a:pt x="12536" y="16086"/>
                </a:moveTo>
                <a:cubicBezTo>
                  <a:pt x="12516" y="16105"/>
                  <a:pt x="12484" y="16127"/>
                  <a:pt x="12510" y="16156"/>
                </a:cubicBezTo>
                <a:cubicBezTo>
                  <a:pt x="12528" y="16175"/>
                  <a:pt x="12581" y="16165"/>
                  <a:pt x="12602" y="16159"/>
                </a:cubicBezTo>
                <a:cubicBezTo>
                  <a:pt x="12631" y="16150"/>
                  <a:pt x="12649" y="16133"/>
                  <a:pt x="12671" y="16113"/>
                </a:cubicBezTo>
              </a:path>
              <a:path w="2903" h="627">
                <a:moveTo>
                  <a:pt x="12521" y="15978"/>
                </a:moveTo>
                <a:cubicBezTo>
                  <a:pt x="12505" y="16014"/>
                  <a:pt x="12533" y="16017"/>
                  <a:pt x="12574" y="16023"/>
                </a:cubicBezTo>
                <a:cubicBezTo>
                  <a:pt x="12649" y="16033"/>
                  <a:pt x="12729" y="16032"/>
                  <a:pt x="12804" y="16024"/>
                </a:cubicBezTo>
                <a:cubicBezTo>
                  <a:pt x="12845" y="16018"/>
                  <a:pt x="12858" y="16017"/>
                  <a:pt x="12884" y="16009"/>
                </a:cubicBezTo>
              </a:path>
              <a:path w="2903" h="627">
                <a:moveTo>
                  <a:pt x="12930" y="16020"/>
                </a:moveTo>
                <a:cubicBezTo>
                  <a:pt x="12911" y="16063"/>
                  <a:pt x="12891" y="16107"/>
                  <a:pt x="12873" y="16151"/>
                </a:cubicBezTo>
                <a:cubicBezTo>
                  <a:pt x="12863" y="16175"/>
                  <a:pt x="12854" y="16200"/>
                  <a:pt x="12846" y="16225"/>
                </a:cubicBezTo>
              </a:path>
              <a:path w="2903" h="627">
                <a:moveTo>
                  <a:pt x="12883" y="15912"/>
                </a:moveTo>
                <a:cubicBezTo>
                  <a:pt x="12951" y="15898"/>
                  <a:pt x="13019" y="15902"/>
                  <a:pt x="13081" y="15938"/>
                </a:cubicBezTo>
                <a:cubicBezTo>
                  <a:pt x="13137" y="15970"/>
                  <a:pt x="13178" y="16024"/>
                  <a:pt x="13181" y="16090"/>
                </a:cubicBezTo>
                <a:cubicBezTo>
                  <a:pt x="13184" y="16162"/>
                  <a:pt x="13144" y="16218"/>
                  <a:pt x="13092" y="16263"/>
                </a:cubicBezTo>
                <a:cubicBezTo>
                  <a:pt x="13055" y="16296"/>
                  <a:pt x="13006" y="16326"/>
                  <a:pt x="12954" y="16323"/>
                </a:cubicBezTo>
                <a:cubicBezTo>
                  <a:pt x="12932" y="16317"/>
                  <a:pt x="12924" y="16315"/>
                  <a:pt x="12912" y="1630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060800" y="5938920"/>
            <a:ext cx="760320" cy="152280"/>
          </a:xfrm>
          <a:custGeom>
            <a:avLst/>
            <a:gdLst/>
            <a:ahLst/>
            <a:rect l="l" t="t" r="r" b="b"/>
            <a:pathLst>
              <a:path w="2114" h="424">
                <a:moveTo>
                  <a:pt x="11437" y="16629"/>
                </a:moveTo>
                <a:cubicBezTo>
                  <a:pt x="11435" y="16680"/>
                  <a:pt x="11411" y="16716"/>
                  <a:pt x="11384" y="16761"/>
                </a:cubicBezTo>
                <a:cubicBezTo>
                  <a:pt x="11351" y="16816"/>
                  <a:pt x="11316" y="16868"/>
                  <a:pt x="11279" y="16920"/>
                </a:cubicBezTo>
              </a:path>
              <a:path w="2114" h="424">
                <a:moveTo>
                  <a:pt x="11470" y="16630"/>
                </a:moveTo>
                <a:cubicBezTo>
                  <a:pt x="11456" y="16659"/>
                  <a:pt x="11441" y="16688"/>
                  <a:pt x="11447" y="16722"/>
                </a:cubicBezTo>
                <a:cubicBezTo>
                  <a:pt x="11457" y="16774"/>
                  <a:pt x="11525" y="16741"/>
                  <a:pt x="11551" y="16726"/>
                </a:cubicBezTo>
                <a:cubicBezTo>
                  <a:pt x="11602" y="16696"/>
                  <a:pt x="11640" y="16654"/>
                  <a:pt x="11682" y="16613"/>
                </a:cubicBezTo>
                <a:cubicBezTo>
                  <a:pt x="11702" y="16595"/>
                  <a:pt x="11708" y="16589"/>
                  <a:pt x="11719" y="16575"/>
                </a:cubicBezTo>
                <a:cubicBezTo>
                  <a:pt x="11696" y="16618"/>
                  <a:pt x="11672" y="16660"/>
                  <a:pt x="11650" y="16703"/>
                </a:cubicBezTo>
                <a:cubicBezTo>
                  <a:pt x="11628" y="16745"/>
                  <a:pt x="11607" y="16793"/>
                  <a:pt x="11603" y="16841"/>
                </a:cubicBezTo>
                <a:cubicBezTo>
                  <a:pt x="11600" y="16883"/>
                  <a:pt x="11631" y="16855"/>
                  <a:pt x="11649" y="16846"/>
                </a:cubicBezTo>
              </a:path>
              <a:path w="2114" h="424">
                <a:moveTo>
                  <a:pt x="11897" y="16578"/>
                </a:moveTo>
                <a:cubicBezTo>
                  <a:pt x="11904" y="16576"/>
                  <a:pt x="11912" y="16575"/>
                  <a:pt x="11919" y="16573"/>
                </a:cubicBezTo>
                <a:cubicBezTo>
                  <a:pt x="11914" y="16619"/>
                  <a:pt x="11891" y="16651"/>
                  <a:pt x="11867" y="16692"/>
                </a:cubicBezTo>
                <a:cubicBezTo>
                  <a:pt x="11841" y="16737"/>
                  <a:pt x="11804" y="16785"/>
                  <a:pt x="11792" y="16837"/>
                </a:cubicBezTo>
                <a:cubicBezTo>
                  <a:pt x="11780" y="16889"/>
                  <a:pt x="11847" y="16872"/>
                  <a:pt x="11873" y="16861"/>
                </a:cubicBezTo>
                <a:cubicBezTo>
                  <a:pt x="11903" y="16845"/>
                  <a:pt x="11914" y="16839"/>
                  <a:pt x="11933" y="16826"/>
                </a:cubicBezTo>
              </a:path>
              <a:path w="2114" h="424">
                <a:moveTo>
                  <a:pt x="11891" y="16703"/>
                </a:moveTo>
                <a:cubicBezTo>
                  <a:pt x="11887" y="16709"/>
                  <a:pt x="11884" y="16715"/>
                  <a:pt x="11880" y="16721"/>
                </a:cubicBezTo>
                <a:cubicBezTo>
                  <a:pt x="11916" y="16744"/>
                  <a:pt x="11930" y="16752"/>
                  <a:pt x="11972" y="16745"/>
                </a:cubicBezTo>
                <a:cubicBezTo>
                  <a:pt x="12001" y="16740"/>
                  <a:pt x="12038" y="16734"/>
                  <a:pt x="12064" y="16719"/>
                </a:cubicBezTo>
                <a:cubicBezTo>
                  <a:pt x="12071" y="16714"/>
                  <a:pt x="12079" y="16708"/>
                  <a:pt x="12086" y="16703"/>
                </a:cubicBezTo>
              </a:path>
              <a:path w="2114" h="424">
                <a:moveTo>
                  <a:pt x="11945" y="16633"/>
                </a:moveTo>
                <a:cubicBezTo>
                  <a:pt x="11927" y="16605"/>
                  <a:pt x="11983" y="16610"/>
                  <a:pt x="12016" y="16611"/>
                </a:cubicBezTo>
                <a:cubicBezTo>
                  <a:pt x="12067" y="16612"/>
                  <a:pt x="12112" y="16614"/>
                  <a:pt x="12162" y="16606"/>
                </a:cubicBezTo>
              </a:path>
              <a:path w="2114" h="424">
                <a:moveTo>
                  <a:pt x="12155" y="16630"/>
                </a:moveTo>
                <a:cubicBezTo>
                  <a:pt x="12150" y="16585"/>
                  <a:pt x="12176" y="16591"/>
                  <a:pt x="12216" y="16582"/>
                </a:cubicBezTo>
                <a:cubicBezTo>
                  <a:pt x="12270" y="16571"/>
                  <a:pt x="12321" y="16555"/>
                  <a:pt x="12374" y="16539"/>
                </a:cubicBezTo>
                <a:cubicBezTo>
                  <a:pt x="12412" y="16528"/>
                  <a:pt x="12447" y="16517"/>
                  <a:pt x="12482" y="16498"/>
                </a:cubicBezTo>
              </a:path>
              <a:path w="2114" h="424">
                <a:moveTo>
                  <a:pt x="12341" y="16567"/>
                </a:moveTo>
                <a:cubicBezTo>
                  <a:pt x="12304" y="16616"/>
                  <a:pt x="12275" y="16671"/>
                  <a:pt x="12245" y="16724"/>
                </a:cubicBezTo>
                <a:cubicBezTo>
                  <a:pt x="12224" y="16761"/>
                  <a:pt x="12204" y="16803"/>
                  <a:pt x="12177" y="16837"/>
                </a:cubicBezTo>
                <a:cubicBezTo>
                  <a:pt x="12172" y="16842"/>
                  <a:pt x="12166" y="16848"/>
                  <a:pt x="12161" y="16853"/>
                </a:cubicBezTo>
              </a:path>
              <a:path w="2114" h="424">
                <a:moveTo>
                  <a:pt x="12449" y="16631"/>
                </a:moveTo>
                <a:cubicBezTo>
                  <a:pt x="12455" y="16628"/>
                  <a:pt x="12462" y="16625"/>
                  <a:pt x="12468" y="16622"/>
                </a:cubicBezTo>
                <a:cubicBezTo>
                  <a:pt x="12449" y="16666"/>
                  <a:pt x="12425" y="16704"/>
                  <a:pt x="12399" y="16744"/>
                </a:cubicBezTo>
                <a:cubicBezTo>
                  <a:pt x="12380" y="16774"/>
                  <a:pt x="12360" y="16804"/>
                  <a:pt x="12344" y="16836"/>
                </a:cubicBezTo>
              </a:path>
              <a:path w="2114" h="424">
                <a:moveTo>
                  <a:pt x="12366" y="16708"/>
                </a:moveTo>
                <a:cubicBezTo>
                  <a:pt x="12400" y="16711"/>
                  <a:pt x="12432" y="16710"/>
                  <a:pt x="12466" y="16706"/>
                </a:cubicBezTo>
                <a:cubicBezTo>
                  <a:pt x="12516" y="16701"/>
                  <a:pt x="12547" y="16684"/>
                  <a:pt x="12588" y="16657"/>
                </a:cubicBezTo>
              </a:path>
              <a:path w="2114" h="424">
                <a:moveTo>
                  <a:pt x="12704" y="16546"/>
                </a:moveTo>
                <a:cubicBezTo>
                  <a:pt x="12668" y="16590"/>
                  <a:pt x="12639" y="16634"/>
                  <a:pt x="12614" y="16685"/>
                </a:cubicBezTo>
                <a:cubicBezTo>
                  <a:pt x="12590" y="16735"/>
                  <a:pt x="12566" y="16788"/>
                  <a:pt x="12549" y="16841"/>
                </a:cubicBezTo>
                <a:cubicBezTo>
                  <a:pt x="12543" y="16864"/>
                  <a:pt x="12541" y="16870"/>
                  <a:pt x="12541" y="16885"/>
                </a:cubicBezTo>
              </a:path>
              <a:path w="2114" h="424">
                <a:moveTo>
                  <a:pt x="12917" y="16589"/>
                </a:moveTo>
                <a:cubicBezTo>
                  <a:pt x="12900" y="16556"/>
                  <a:pt x="12864" y="16579"/>
                  <a:pt x="12831" y="16607"/>
                </a:cubicBezTo>
                <a:cubicBezTo>
                  <a:pt x="12791" y="16640"/>
                  <a:pt x="12749" y="16692"/>
                  <a:pt x="12736" y="16744"/>
                </a:cubicBezTo>
                <a:cubicBezTo>
                  <a:pt x="12726" y="16785"/>
                  <a:pt x="12750" y="16819"/>
                  <a:pt x="12792" y="16823"/>
                </a:cubicBezTo>
                <a:cubicBezTo>
                  <a:pt x="12834" y="16827"/>
                  <a:pt x="12884" y="16796"/>
                  <a:pt x="12909" y="16764"/>
                </a:cubicBezTo>
                <a:cubicBezTo>
                  <a:pt x="12935" y="16732"/>
                  <a:pt x="12928" y="16696"/>
                  <a:pt x="12905" y="16664"/>
                </a:cubicBezTo>
                <a:cubicBezTo>
                  <a:pt x="12888" y="16645"/>
                  <a:pt x="12883" y="16639"/>
                  <a:pt x="12869" y="16630"/>
                </a:cubicBezTo>
              </a:path>
              <a:path w="2114" h="424">
                <a:moveTo>
                  <a:pt x="13123" y="16636"/>
                </a:moveTo>
                <a:cubicBezTo>
                  <a:pt x="13140" y="16623"/>
                  <a:pt x="13155" y="16611"/>
                  <a:pt x="13173" y="16600"/>
                </a:cubicBezTo>
                <a:cubicBezTo>
                  <a:pt x="13176" y="16644"/>
                  <a:pt x="13164" y="16669"/>
                  <a:pt x="13146" y="16710"/>
                </a:cubicBezTo>
                <a:cubicBezTo>
                  <a:pt x="13133" y="16739"/>
                  <a:pt x="13120" y="16821"/>
                  <a:pt x="13103" y="16794"/>
                </a:cubicBezTo>
                <a:cubicBezTo>
                  <a:pt x="13105" y="16788"/>
                  <a:pt x="13106" y="16783"/>
                  <a:pt x="13108" y="16777"/>
                </a:cubicBezTo>
              </a:path>
              <a:path w="2114" h="424">
                <a:moveTo>
                  <a:pt x="13195" y="16527"/>
                </a:moveTo>
                <a:cubicBezTo>
                  <a:pt x="13228" y="16506"/>
                  <a:pt x="13261" y="16487"/>
                  <a:pt x="13303" y="16500"/>
                </a:cubicBezTo>
                <a:cubicBezTo>
                  <a:pt x="13359" y="16517"/>
                  <a:pt x="13387" y="16582"/>
                  <a:pt x="13392" y="16635"/>
                </a:cubicBezTo>
                <a:cubicBezTo>
                  <a:pt x="13398" y="16706"/>
                  <a:pt x="13361" y="16769"/>
                  <a:pt x="13311" y="16815"/>
                </a:cubicBezTo>
                <a:cubicBezTo>
                  <a:pt x="13280" y="16844"/>
                  <a:pt x="13226" y="16874"/>
                  <a:pt x="13186" y="16843"/>
                </a:cubicBezTo>
                <a:cubicBezTo>
                  <a:pt x="13182" y="16838"/>
                  <a:pt x="13178" y="16833"/>
                  <a:pt x="13174" y="1682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950000" y="5943600"/>
            <a:ext cx="531720" cy="174600"/>
          </a:xfrm>
          <a:custGeom>
            <a:avLst/>
            <a:gdLst/>
            <a:ahLst/>
            <a:rect l="l" t="t" r="r" b="b"/>
            <a:pathLst>
              <a:path w="1479" h="485">
                <a:moveTo>
                  <a:pt x="13985" y="16589"/>
                </a:moveTo>
                <a:cubicBezTo>
                  <a:pt x="13992" y="16572"/>
                  <a:pt x="13994" y="16564"/>
                  <a:pt x="13990" y="16550"/>
                </a:cubicBezTo>
                <a:cubicBezTo>
                  <a:pt x="13954" y="16542"/>
                  <a:pt x="13937" y="16555"/>
                  <a:pt x="13907" y="16579"/>
                </a:cubicBezTo>
                <a:cubicBezTo>
                  <a:pt x="13836" y="16636"/>
                  <a:pt x="13767" y="16721"/>
                  <a:pt x="13750" y="16813"/>
                </a:cubicBezTo>
                <a:cubicBezTo>
                  <a:pt x="13740" y="16866"/>
                  <a:pt x="13763" y="16897"/>
                  <a:pt x="13816" y="16901"/>
                </a:cubicBezTo>
                <a:cubicBezTo>
                  <a:pt x="13895" y="16906"/>
                  <a:pt x="13962" y="16854"/>
                  <a:pt x="14024" y="16812"/>
                </a:cubicBezTo>
              </a:path>
              <a:path w="1479" h="485">
                <a:moveTo>
                  <a:pt x="13979" y="16843"/>
                </a:moveTo>
                <a:cubicBezTo>
                  <a:pt x="14031" y="16825"/>
                  <a:pt x="14070" y="16794"/>
                  <a:pt x="14113" y="16758"/>
                </a:cubicBezTo>
                <a:cubicBezTo>
                  <a:pt x="14178" y="16705"/>
                  <a:pt x="14238" y="16646"/>
                  <a:pt x="14299" y="16588"/>
                </a:cubicBezTo>
                <a:cubicBezTo>
                  <a:pt x="14329" y="16560"/>
                  <a:pt x="14358" y="16534"/>
                  <a:pt x="14389" y="16508"/>
                </a:cubicBezTo>
                <a:cubicBezTo>
                  <a:pt x="14390" y="16568"/>
                  <a:pt x="14362" y="16614"/>
                  <a:pt x="14340" y="16672"/>
                </a:cubicBezTo>
                <a:cubicBezTo>
                  <a:pt x="14316" y="16733"/>
                  <a:pt x="14298" y="16795"/>
                  <a:pt x="14283" y="16859"/>
                </a:cubicBezTo>
                <a:cubicBezTo>
                  <a:pt x="14277" y="16886"/>
                  <a:pt x="14275" y="16891"/>
                  <a:pt x="14273" y="16908"/>
                </a:cubicBezTo>
              </a:path>
              <a:path w="1479" h="485">
                <a:moveTo>
                  <a:pt x="14171" y="16775"/>
                </a:moveTo>
                <a:cubicBezTo>
                  <a:pt x="14189" y="16752"/>
                  <a:pt x="14211" y="16747"/>
                  <a:pt x="14240" y="16736"/>
                </a:cubicBezTo>
                <a:cubicBezTo>
                  <a:pt x="14281" y="16720"/>
                  <a:pt x="14324" y="16709"/>
                  <a:pt x="14368" y="16702"/>
                </a:cubicBezTo>
                <a:cubicBezTo>
                  <a:pt x="14394" y="16698"/>
                  <a:pt x="14421" y="16695"/>
                  <a:pt x="14447" y="16691"/>
                </a:cubicBezTo>
              </a:path>
              <a:path w="1479" h="485">
                <a:moveTo>
                  <a:pt x="14665" y="16529"/>
                </a:moveTo>
                <a:cubicBezTo>
                  <a:pt x="14644" y="16570"/>
                  <a:pt x="14611" y="16604"/>
                  <a:pt x="14582" y="16640"/>
                </a:cubicBezTo>
                <a:cubicBezTo>
                  <a:pt x="14546" y="16685"/>
                  <a:pt x="14505" y="16732"/>
                  <a:pt x="14479" y="16784"/>
                </a:cubicBezTo>
                <a:cubicBezTo>
                  <a:pt x="14455" y="16833"/>
                  <a:pt x="14476" y="16852"/>
                  <a:pt x="14526" y="16845"/>
                </a:cubicBezTo>
                <a:cubicBezTo>
                  <a:pt x="14571" y="16839"/>
                  <a:pt x="14617" y="16814"/>
                  <a:pt x="14655" y="16792"/>
                </a:cubicBezTo>
                <a:cubicBezTo>
                  <a:pt x="14666" y="16785"/>
                  <a:pt x="14676" y="16779"/>
                  <a:pt x="14687" y="16772"/>
                </a:cubicBezTo>
              </a:path>
              <a:path w="1479" h="485">
                <a:moveTo>
                  <a:pt x="14924" y="16554"/>
                </a:moveTo>
                <a:cubicBezTo>
                  <a:pt x="14890" y="16590"/>
                  <a:pt x="14860" y="16629"/>
                  <a:pt x="14831" y="16669"/>
                </a:cubicBezTo>
                <a:cubicBezTo>
                  <a:pt x="14797" y="16716"/>
                  <a:pt x="14761" y="16764"/>
                  <a:pt x="14742" y="16819"/>
                </a:cubicBezTo>
                <a:cubicBezTo>
                  <a:pt x="14725" y="16867"/>
                  <a:pt x="14748" y="16882"/>
                  <a:pt x="14795" y="16870"/>
                </a:cubicBezTo>
                <a:cubicBezTo>
                  <a:pt x="14842" y="16858"/>
                  <a:pt x="14887" y="16833"/>
                  <a:pt x="14928" y="16809"/>
                </a:cubicBezTo>
                <a:cubicBezTo>
                  <a:pt x="14939" y="16802"/>
                  <a:pt x="14950" y="16796"/>
                  <a:pt x="14961" y="16789"/>
                </a:cubicBezTo>
              </a:path>
              <a:path w="1479" h="485">
                <a:moveTo>
                  <a:pt x="15212" y="16600"/>
                </a:moveTo>
                <a:cubicBezTo>
                  <a:pt x="15217" y="16594"/>
                  <a:pt x="15222" y="16589"/>
                  <a:pt x="15227" y="16583"/>
                </a:cubicBezTo>
                <a:cubicBezTo>
                  <a:pt x="15195" y="16574"/>
                  <a:pt x="15171" y="16585"/>
                  <a:pt x="15139" y="16598"/>
                </a:cubicBezTo>
                <a:cubicBezTo>
                  <a:pt x="15105" y="16611"/>
                  <a:pt x="15058" y="16626"/>
                  <a:pt x="15033" y="16654"/>
                </a:cubicBezTo>
                <a:cubicBezTo>
                  <a:pt x="15007" y="16683"/>
                  <a:pt x="15038" y="16705"/>
                  <a:pt x="15059" y="16722"/>
                </a:cubicBezTo>
                <a:cubicBezTo>
                  <a:pt x="15092" y="16749"/>
                  <a:pt x="15134" y="16774"/>
                  <a:pt x="15157" y="16811"/>
                </a:cubicBezTo>
                <a:cubicBezTo>
                  <a:pt x="15179" y="16847"/>
                  <a:pt x="15165" y="16888"/>
                  <a:pt x="15140" y="16918"/>
                </a:cubicBezTo>
                <a:cubicBezTo>
                  <a:pt x="15110" y="16953"/>
                  <a:pt x="15060" y="16978"/>
                  <a:pt x="15016" y="16988"/>
                </a:cubicBezTo>
                <a:cubicBezTo>
                  <a:pt x="14985" y="16992"/>
                  <a:pt x="14975" y="16993"/>
                  <a:pt x="14955" y="16991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9000F6-3FC3-4C15-B5F8-B9B3AAC375E5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netbeans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2119320" y="4481640"/>
            <a:ext cx="3211560" cy="588960"/>
          </a:xfrm>
          <a:custGeom>
            <a:avLst/>
            <a:gdLst/>
            <a:ahLst/>
            <a:rect l="l" t="t" r="r" b="b"/>
            <a:pathLst>
              <a:path w="8918" h="1635">
                <a:moveTo>
                  <a:pt x="6068" y="13980"/>
                </a:moveTo>
                <a:cubicBezTo>
                  <a:pt x="6131" y="13927"/>
                  <a:pt x="6193" y="13879"/>
                  <a:pt x="6265" y="13835"/>
                </a:cubicBezTo>
                <a:cubicBezTo>
                  <a:pt x="6536" y="13670"/>
                  <a:pt x="6823" y="13529"/>
                  <a:pt x="7116" y="13409"/>
                </a:cubicBezTo>
                <a:cubicBezTo>
                  <a:pt x="7555" y="13230"/>
                  <a:pt x="8021" y="13110"/>
                  <a:pt x="8492" y="13054"/>
                </a:cubicBezTo>
                <a:cubicBezTo>
                  <a:pt x="8793" y="13018"/>
                  <a:pt x="9099" y="13010"/>
                  <a:pt x="9402" y="13001"/>
                </a:cubicBezTo>
              </a:path>
              <a:path w="8918" h="1635">
                <a:moveTo>
                  <a:pt x="6230" y="13546"/>
                </a:moveTo>
                <a:cubicBezTo>
                  <a:pt x="6220" y="13574"/>
                  <a:pt x="6221" y="13570"/>
                  <a:pt x="6207" y="13597"/>
                </a:cubicBezTo>
                <a:cubicBezTo>
                  <a:pt x="6179" y="13652"/>
                  <a:pt x="6145" y="13703"/>
                  <a:pt x="6108" y="13753"/>
                </a:cubicBezTo>
                <a:cubicBezTo>
                  <a:pt x="6060" y="13817"/>
                  <a:pt x="6013" y="13881"/>
                  <a:pt x="5965" y="13945"/>
                </a:cubicBezTo>
                <a:cubicBezTo>
                  <a:pt x="5936" y="13983"/>
                  <a:pt x="5912" y="14020"/>
                  <a:pt x="5894" y="14064"/>
                </a:cubicBezTo>
                <a:cubicBezTo>
                  <a:pt x="5892" y="14070"/>
                  <a:pt x="5890" y="14076"/>
                  <a:pt x="5888" y="14082"/>
                </a:cubicBezTo>
                <a:cubicBezTo>
                  <a:pt x="5924" y="14071"/>
                  <a:pt x="5962" y="14058"/>
                  <a:pt x="5999" y="14046"/>
                </a:cubicBezTo>
                <a:cubicBezTo>
                  <a:pt x="6072" y="14022"/>
                  <a:pt x="6146" y="13998"/>
                  <a:pt x="6220" y="13978"/>
                </a:cubicBezTo>
                <a:cubicBezTo>
                  <a:pt x="6372" y="13938"/>
                  <a:pt x="6529" y="13913"/>
                  <a:pt x="6684" y="13890"/>
                </a:cubicBezTo>
              </a:path>
              <a:path w="8918" h="1635">
                <a:moveTo>
                  <a:pt x="10092" y="12718"/>
                </a:moveTo>
                <a:cubicBezTo>
                  <a:pt x="10055" y="12682"/>
                  <a:pt x="10030" y="12701"/>
                  <a:pt x="9987" y="12735"/>
                </a:cubicBezTo>
                <a:cubicBezTo>
                  <a:pt x="9927" y="12782"/>
                  <a:pt x="9878" y="12834"/>
                  <a:pt x="9837" y="12899"/>
                </a:cubicBezTo>
                <a:cubicBezTo>
                  <a:pt x="9812" y="12939"/>
                  <a:pt x="9764" y="13016"/>
                  <a:pt x="9795" y="13065"/>
                </a:cubicBezTo>
                <a:cubicBezTo>
                  <a:pt x="9825" y="13113"/>
                  <a:pt x="9891" y="13108"/>
                  <a:pt x="9937" y="13098"/>
                </a:cubicBezTo>
                <a:cubicBezTo>
                  <a:pt x="9953" y="13093"/>
                  <a:pt x="9970" y="13088"/>
                  <a:pt x="9986" y="13083"/>
                </a:cubicBezTo>
              </a:path>
              <a:path w="8918" h="1635">
                <a:moveTo>
                  <a:pt x="10390" y="12770"/>
                </a:moveTo>
                <a:cubicBezTo>
                  <a:pt x="10375" y="12814"/>
                  <a:pt x="10353" y="12854"/>
                  <a:pt x="10336" y="12897"/>
                </a:cubicBezTo>
                <a:cubicBezTo>
                  <a:pt x="10322" y="12931"/>
                  <a:pt x="10304" y="12965"/>
                  <a:pt x="10303" y="13001"/>
                </a:cubicBezTo>
              </a:path>
              <a:path w="8918" h="1635">
                <a:moveTo>
                  <a:pt x="10373" y="12711"/>
                </a:moveTo>
                <a:cubicBezTo>
                  <a:pt x="10405" y="12690"/>
                  <a:pt x="10435" y="12680"/>
                  <a:pt x="10472" y="12671"/>
                </a:cubicBezTo>
                <a:cubicBezTo>
                  <a:pt x="10542" y="12655"/>
                  <a:pt x="10613" y="12639"/>
                  <a:pt x="10685" y="12635"/>
                </a:cubicBezTo>
                <a:cubicBezTo>
                  <a:pt x="10694" y="12687"/>
                  <a:pt x="10659" y="12713"/>
                  <a:pt x="10622" y="12755"/>
                </a:cubicBezTo>
                <a:cubicBezTo>
                  <a:pt x="10574" y="12809"/>
                  <a:pt x="10524" y="12854"/>
                  <a:pt x="10484" y="12915"/>
                </a:cubicBezTo>
                <a:cubicBezTo>
                  <a:pt x="10468" y="12943"/>
                  <a:pt x="10463" y="12949"/>
                  <a:pt x="10459" y="12969"/>
                </a:cubicBezTo>
                <a:cubicBezTo>
                  <a:pt x="10494" y="12992"/>
                  <a:pt x="10520" y="12988"/>
                  <a:pt x="10563" y="12975"/>
                </a:cubicBezTo>
                <a:cubicBezTo>
                  <a:pt x="10575" y="12971"/>
                  <a:pt x="10588" y="12966"/>
                  <a:pt x="10600" y="12962"/>
                </a:cubicBezTo>
              </a:path>
              <a:path w="8918" h="1635">
                <a:moveTo>
                  <a:pt x="10990" y="12703"/>
                </a:moveTo>
                <a:cubicBezTo>
                  <a:pt x="10951" y="12675"/>
                  <a:pt x="10926" y="12699"/>
                  <a:pt x="10887" y="12731"/>
                </a:cubicBezTo>
                <a:cubicBezTo>
                  <a:pt x="10845" y="12765"/>
                  <a:pt x="10793" y="12816"/>
                  <a:pt x="10774" y="12868"/>
                </a:cubicBezTo>
                <a:cubicBezTo>
                  <a:pt x="10755" y="12919"/>
                  <a:pt x="10803" y="12933"/>
                  <a:pt x="10843" y="12928"/>
                </a:cubicBezTo>
                <a:cubicBezTo>
                  <a:pt x="10902" y="12920"/>
                  <a:pt x="10980" y="12877"/>
                  <a:pt x="11007" y="12823"/>
                </a:cubicBezTo>
                <a:cubicBezTo>
                  <a:pt x="11025" y="12787"/>
                  <a:pt x="11015" y="12750"/>
                  <a:pt x="10989" y="12721"/>
                </a:cubicBezTo>
                <a:cubicBezTo>
                  <a:pt x="10974" y="12704"/>
                  <a:pt x="10959" y="12700"/>
                  <a:pt x="10939" y="12693"/>
                </a:cubicBezTo>
              </a:path>
              <a:path w="8918" h="1635">
                <a:moveTo>
                  <a:pt x="11398" y="12747"/>
                </a:moveTo>
                <a:cubicBezTo>
                  <a:pt x="11411" y="12727"/>
                  <a:pt x="11448" y="12686"/>
                  <a:pt x="11431" y="12658"/>
                </a:cubicBezTo>
                <a:cubicBezTo>
                  <a:pt x="11411" y="12625"/>
                  <a:pt x="11339" y="12649"/>
                  <a:pt x="11314" y="12658"/>
                </a:cubicBezTo>
                <a:cubicBezTo>
                  <a:pt x="11259" y="12677"/>
                  <a:pt x="11195" y="12711"/>
                  <a:pt x="11154" y="12754"/>
                </a:cubicBezTo>
                <a:cubicBezTo>
                  <a:pt x="11126" y="12784"/>
                  <a:pt x="11118" y="12819"/>
                  <a:pt x="11160" y="12838"/>
                </a:cubicBezTo>
                <a:cubicBezTo>
                  <a:pt x="11236" y="12873"/>
                  <a:pt x="11326" y="12859"/>
                  <a:pt x="11402" y="12898"/>
                </a:cubicBezTo>
                <a:cubicBezTo>
                  <a:pt x="11400" y="12935"/>
                  <a:pt x="11381" y="12948"/>
                  <a:pt x="11348" y="12966"/>
                </a:cubicBezTo>
                <a:cubicBezTo>
                  <a:pt x="11319" y="12982"/>
                  <a:pt x="11279" y="12995"/>
                  <a:pt x="11245" y="12987"/>
                </a:cubicBezTo>
                <a:cubicBezTo>
                  <a:pt x="11210" y="12979"/>
                  <a:pt x="11231" y="12952"/>
                  <a:pt x="11239" y="12933"/>
                </a:cubicBezTo>
              </a:path>
              <a:path w="8918" h="1635">
                <a:moveTo>
                  <a:pt x="11767" y="12684"/>
                </a:moveTo>
                <a:cubicBezTo>
                  <a:pt x="11806" y="12659"/>
                  <a:pt x="11841" y="12641"/>
                  <a:pt x="11867" y="12603"/>
                </a:cubicBezTo>
                <a:cubicBezTo>
                  <a:pt x="11812" y="12591"/>
                  <a:pt x="11770" y="12601"/>
                  <a:pt x="11715" y="12618"/>
                </a:cubicBezTo>
                <a:cubicBezTo>
                  <a:pt x="11662" y="12635"/>
                  <a:pt x="11559" y="12666"/>
                  <a:pt x="11535" y="12723"/>
                </a:cubicBezTo>
                <a:cubicBezTo>
                  <a:pt x="11520" y="12758"/>
                  <a:pt x="11571" y="12783"/>
                  <a:pt x="11592" y="12798"/>
                </a:cubicBezTo>
                <a:cubicBezTo>
                  <a:pt x="11616" y="12815"/>
                  <a:pt x="11660" y="12839"/>
                  <a:pt x="11661" y="12873"/>
                </a:cubicBezTo>
                <a:cubicBezTo>
                  <a:pt x="11663" y="12910"/>
                  <a:pt x="11615" y="12942"/>
                  <a:pt x="11588" y="12959"/>
                </a:cubicBezTo>
                <a:cubicBezTo>
                  <a:pt x="11573" y="12968"/>
                  <a:pt x="11509" y="13002"/>
                  <a:pt x="11490" y="12985"/>
                </a:cubicBezTo>
                <a:cubicBezTo>
                  <a:pt x="11486" y="12977"/>
                  <a:pt x="11483" y="12969"/>
                  <a:pt x="11479" y="12961"/>
                </a:cubicBezTo>
              </a:path>
              <a:path w="8918" h="1635">
                <a:moveTo>
                  <a:pt x="12271" y="12624"/>
                </a:moveTo>
                <a:cubicBezTo>
                  <a:pt x="12272" y="12594"/>
                  <a:pt x="12272" y="12565"/>
                  <a:pt x="12230" y="12574"/>
                </a:cubicBezTo>
                <a:cubicBezTo>
                  <a:pt x="12170" y="12587"/>
                  <a:pt x="12121" y="12646"/>
                  <a:pt x="12086" y="12691"/>
                </a:cubicBezTo>
                <a:cubicBezTo>
                  <a:pt x="12040" y="12750"/>
                  <a:pt x="11982" y="12832"/>
                  <a:pt x="11994" y="12912"/>
                </a:cubicBezTo>
                <a:cubicBezTo>
                  <a:pt x="12000" y="12954"/>
                  <a:pt x="12046" y="12954"/>
                  <a:pt x="12079" y="12953"/>
                </a:cubicBezTo>
                <a:cubicBezTo>
                  <a:pt x="12123" y="12952"/>
                  <a:pt x="12156" y="12938"/>
                  <a:pt x="12196" y="12922"/>
                </a:cubicBezTo>
              </a:path>
              <a:path w="8918" h="1635">
                <a:moveTo>
                  <a:pt x="12459" y="12660"/>
                </a:moveTo>
                <a:cubicBezTo>
                  <a:pt x="12422" y="12708"/>
                  <a:pt x="12390" y="12752"/>
                  <a:pt x="12370" y="12810"/>
                </a:cubicBezTo>
                <a:cubicBezTo>
                  <a:pt x="12361" y="12836"/>
                  <a:pt x="12337" y="12898"/>
                  <a:pt x="12376" y="12915"/>
                </a:cubicBezTo>
                <a:cubicBezTo>
                  <a:pt x="12417" y="12933"/>
                  <a:pt x="12492" y="12887"/>
                  <a:pt x="12524" y="12867"/>
                </a:cubicBezTo>
                <a:cubicBezTo>
                  <a:pt x="12596" y="12823"/>
                  <a:pt x="12662" y="12759"/>
                  <a:pt x="12704" y="12686"/>
                </a:cubicBezTo>
                <a:cubicBezTo>
                  <a:pt x="12727" y="12645"/>
                  <a:pt x="12726" y="12646"/>
                  <a:pt x="12695" y="12627"/>
                </a:cubicBezTo>
              </a:path>
              <a:path w="8918" h="1635">
                <a:moveTo>
                  <a:pt x="12894" y="12613"/>
                </a:moveTo>
                <a:cubicBezTo>
                  <a:pt x="12897" y="12653"/>
                  <a:pt x="12869" y="12681"/>
                  <a:pt x="12846" y="12716"/>
                </a:cubicBezTo>
                <a:cubicBezTo>
                  <a:pt x="12815" y="12765"/>
                  <a:pt x="12785" y="12815"/>
                  <a:pt x="12759" y="12867"/>
                </a:cubicBezTo>
                <a:cubicBezTo>
                  <a:pt x="12741" y="12902"/>
                  <a:pt x="12732" y="12902"/>
                  <a:pt x="12767" y="12901"/>
                </a:cubicBezTo>
              </a:path>
              <a:path w="8918" h="1635">
                <a:moveTo>
                  <a:pt x="12711" y="12638"/>
                </a:moveTo>
                <a:cubicBezTo>
                  <a:pt x="12707" y="12630"/>
                  <a:pt x="12703" y="12623"/>
                  <a:pt x="12699" y="12615"/>
                </a:cubicBezTo>
                <a:cubicBezTo>
                  <a:pt x="12739" y="12601"/>
                  <a:pt x="12776" y="12596"/>
                  <a:pt x="12818" y="12591"/>
                </a:cubicBezTo>
                <a:cubicBezTo>
                  <a:pt x="12880" y="12583"/>
                  <a:pt x="12942" y="12581"/>
                  <a:pt x="13005" y="12579"/>
                </a:cubicBezTo>
                <a:cubicBezTo>
                  <a:pt x="13051" y="12578"/>
                  <a:pt x="13066" y="12578"/>
                  <a:pt x="13096" y="12576"/>
                </a:cubicBezTo>
              </a:path>
              <a:path w="8918" h="1635">
                <a:moveTo>
                  <a:pt x="13206" y="12668"/>
                </a:moveTo>
                <a:cubicBezTo>
                  <a:pt x="13228" y="12648"/>
                  <a:pt x="13234" y="12642"/>
                  <a:pt x="13248" y="12629"/>
                </a:cubicBezTo>
                <a:cubicBezTo>
                  <a:pt x="13225" y="12677"/>
                  <a:pt x="13194" y="12718"/>
                  <a:pt x="13163" y="12762"/>
                </a:cubicBezTo>
                <a:cubicBezTo>
                  <a:pt x="13136" y="12800"/>
                  <a:pt x="13110" y="12839"/>
                  <a:pt x="13087" y="12880"/>
                </a:cubicBezTo>
              </a:path>
              <a:path w="8918" h="1635">
                <a:moveTo>
                  <a:pt x="13055" y="12627"/>
                </a:moveTo>
                <a:cubicBezTo>
                  <a:pt x="13075" y="12598"/>
                  <a:pt x="13096" y="12594"/>
                  <a:pt x="13132" y="12589"/>
                </a:cubicBezTo>
                <a:cubicBezTo>
                  <a:pt x="13195" y="12580"/>
                  <a:pt x="13259" y="12573"/>
                  <a:pt x="13322" y="12566"/>
                </a:cubicBezTo>
                <a:cubicBezTo>
                  <a:pt x="13387" y="12559"/>
                  <a:pt x="13453" y="12554"/>
                  <a:pt x="13518" y="12543"/>
                </a:cubicBezTo>
                <a:cubicBezTo>
                  <a:pt x="13530" y="12541"/>
                  <a:pt x="13541" y="12538"/>
                  <a:pt x="13553" y="12536"/>
                </a:cubicBezTo>
              </a:path>
              <a:path w="8918" h="1635">
                <a:moveTo>
                  <a:pt x="13630" y="12621"/>
                </a:moveTo>
                <a:cubicBezTo>
                  <a:pt x="13649" y="12604"/>
                  <a:pt x="13667" y="12591"/>
                  <a:pt x="13688" y="12578"/>
                </a:cubicBezTo>
                <a:cubicBezTo>
                  <a:pt x="13666" y="12614"/>
                  <a:pt x="13641" y="12648"/>
                  <a:pt x="13615" y="12682"/>
                </a:cubicBezTo>
                <a:cubicBezTo>
                  <a:pt x="13586" y="12720"/>
                  <a:pt x="13557" y="12758"/>
                  <a:pt x="13531" y="12798"/>
                </a:cubicBezTo>
                <a:cubicBezTo>
                  <a:pt x="13528" y="12804"/>
                  <a:pt x="13524" y="12810"/>
                  <a:pt x="13521" y="12816"/>
                </a:cubicBezTo>
              </a:path>
              <a:path w="8918" h="1635">
                <a:moveTo>
                  <a:pt x="13796" y="12588"/>
                </a:moveTo>
                <a:cubicBezTo>
                  <a:pt x="13776" y="12626"/>
                  <a:pt x="13751" y="12659"/>
                  <a:pt x="13728" y="12695"/>
                </a:cubicBezTo>
                <a:cubicBezTo>
                  <a:pt x="13714" y="12717"/>
                  <a:pt x="13704" y="12738"/>
                  <a:pt x="13694" y="12762"/>
                </a:cubicBezTo>
                <a:cubicBezTo>
                  <a:pt x="13743" y="12746"/>
                  <a:pt x="13769" y="12713"/>
                  <a:pt x="13807" y="12675"/>
                </a:cubicBezTo>
                <a:cubicBezTo>
                  <a:pt x="13843" y="12638"/>
                  <a:pt x="13877" y="12597"/>
                  <a:pt x="13916" y="12563"/>
                </a:cubicBezTo>
                <a:cubicBezTo>
                  <a:pt x="13921" y="12559"/>
                  <a:pt x="13927" y="12556"/>
                  <a:pt x="13932" y="12552"/>
                </a:cubicBezTo>
                <a:cubicBezTo>
                  <a:pt x="13934" y="12589"/>
                  <a:pt x="13912" y="12622"/>
                  <a:pt x="13896" y="12659"/>
                </a:cubicBezTo>
                <a:cubicBezTo>
                  <a:pt x="13885" y="12686"/>
                  <a:pt x="13858" y="12741"/>
                  <a:pt x="13894" y="12763"/>
                </a:cubicBezTo>
                <a:cubicBezTo>
                  <a:pt x="13937" y="12789"/>
                  <a:pt x="14016" y="12733"/>
                  <a:pt x="14050" y="12714"/>
                </a:cubicBezTo>
                <a:cubicBezTo>
                  <a:pt x="14124" y="12672"/>
                  <a:pt x="14188" y="12617"/>
                  <a:pt x="14251" y="12560"/>
                </a:cubicBezTo>
              </a:path>
              <a:path w="8918" h="1635">
                <a:moveTo>
                  <a:pt x="14512" y="12467"/>
                </a:moveTo>
                <a:cubicBezTo>
                  <a:pt x="14533" y="12410"/>
                  <a:pt x="14443" y="12496"/>
                  <a:pt x="14421" y="12515"/>
                </a:cubicBezTo>
                <a:cubicBezTo>
                  <a:pt x="14357" y="12571"/>
                  <a:pt x="14279" y="12649"/>
                  <a:pt x="14278" y="12741"/>
                </a:cubicBezTo>
                <a:cubicBezTo>
                  <a:pt x="14278" y="12796"/>
                  <a:pt x="14322" y="12820"/>
                  <a:pt x="14371" y="12814"/>
                </a:cubicBezTo>
                <a:cubicBezTo>
                  <a:pt x="14424" y="12808"/>
                  <a:pt x="14482" y="12762"/>
                  <a:pt x="14487" y="12706"/>
                </a:cubicBezTo>
                <a:cubicBezTo>
                  <a:pt x="14490" y="12676"/>
                  <a:pt x="14472" y="12669"/>
                  <a:pt x="14452" y="12654"/>
                </a:cubicBezTo>
                <a:cubicBezTo>
                  <a:pt x="14501" y="12671"/>
                  <a:pt x="14551" y="12666"/>
                  <a:pt x="14604" y="12665"/>
                </a:cubicBezTo>
                <a:cubicBezTo>
                  <a:pt x="14672" y="12663"/>
                  <a:pt x="14737" y="12663"/>
                  <a:pt x="14805" y="1267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525840" y="4819680"/>
            <a:ext cx="630360" cy="158760"/>
          </a:xfrm>
          <a:custGeom>
            <a:avLst/>
            <a:gdLst/>
            <a:ahLst/>
            <a:rect l="l" t="t" r="r" b="b"/>
            <a:pathLst>
              <a:path w="1752" h="441">
                <a:moveTo>
                  <a:pt x="9970" y="13439"/>
                </a:moveTo>
                <a:cubicBezTo>
                  <a:pt x="9944" y="13472"/>
                  <a:pt x="9920" y="13506"/>
                  <a:pt x="9899" y="13543"/>
                </a:cubicBezTo>
                <a:cubicBezTo>
                  <a:pt x="9861" y="13610"/>
                  <a:pt x="9801" y="13698"/>
                  <a:pt x="9793" y="13777"/>
                </a:cubicBezTo>
                <a:cubicBezTo>
                  <a:pt x="9794" y="13783"/>
                  <a:pt x="9794" y="13789"/>
                  <a:pt x="9795" y="13795"/>
                </a:cubicBezTo>
                <a:cubicBezTo>
                  <a:pt x="9846" y="13793"/>
                  <a:pt x="9876" y="13776"/>
                  <a:pt x="9921" y="13749"/>
                </a:cubicBezTo>
                <a:cubicBezTo>
                  <a:pt x="9971" y="13719"/>
                  <a:pt x="10020" y="13688"/>
                  <a:pt x="10067" y="13655"/>
                </a:cubicBezTo>
                <a:cubicBezTo>
                  <a:pt x="10077" y="13648"/>
                  <a:pt x="10088" y="13640"/>
                  <a:pt x="10098" y="13633"/>
                </a:cubicBezTo>
              </a:path>
              <a:path w="1752" h="441">
                <a:moveTo>
                  <a:pt x="10334" y="13420"/>
                </a:moveTo>
                <a:cubicBezTo>
                  <a:pt x="10311" y="13458"/>
                  <a:pt x="10283" y="13492"/>
                  <a:pt x="10258" y="13528"/>
                </a:cubicBezTo>
                <a:cubicBezTo>
                  <a:pt x="10216" y="13589"/>
                  <a:pt x="10178" y="13650"/>
                  <a:pt x="10145" y="13716"/>
                </a:cubicBezTo>
                <a:cubicBezTo>
                  <a:pt x="10126" y="13754"/>
                  <a:pt x="10102" y="13789"/>
                  <a:pt x="10112" y="13827"/>
                </a:cubicBezTo>
              </a:path>
              <a:path w="1752" h="441">
                <a:moveTo>
                  <a:pt x="10500" y="13451"/>
                </a:moveTo>
                <a:cubicBezTo>
                  <a:pt x="10471" y="13499"/>
                  <a:pt x="10438" y="13543"/>
                  <a:pt x="10408" y="13590"/>
                </a:cubicBezTo>
                <a:cubicBezTo>
                  <a:pt x="10375" y="13641"/>
                  <a:pt x="10337" y="13691"/>
                  <a:pt x="10311" y="13745"/>
                </a:cubicBezTo>
                <a:cubicBezTo>
                  <a:pt x="10352" y="13721"/>
                  <a:pt x="10384" y="13685"/>
                  <a:pt x="10416" y="13649"/>
                </a:cubicBezTo>
                <a:cubicBezTo>
                  <a:pt x="10460" y="13601"/>
                  <a:pt x="10493" y="13546"/>
                  <a:pt x="10532" y="13495"/>
                </a:cubicBezTo>
                <a:cubicBezTo>
                  <a:pt x="10547" y="13478"/>
                  <a:pt x="10551" y="13473"/>
                  <a:pt x="10565" y="13467"/>
                </a:cubicBezTo>
                <a:cubicBezTo>
                  <a:pt x="10549" y="13548"/>
                  <a:pt x="10530" y="13628"/>
                  <a:pt x="10529" y="13711"/>
                </a:cubicBezTo>
                <a:cubicBezTo>
                  <a:pt x="10584" y="13727"/>
                  <a:pt x="10608" y="13696"/>
                  <a:pt x="10654" y="13656"/>
                </a:cubicBezTo>
                <a:cubicBezTo>
                  <a:pt x="10702" y="13614"/>
                  <a:pt x="10745" y="13566"/>
                  <a:pt x="10792" y="13522"/>
                </a:cubicBezTo>
                <a:cubicBezTo>
                  <a:pt x="10800" y="13515"/>
                  <a:pt x="10807" y="13509"/>
                  <a:pt x="10815" y="13502"/>
                </a:cubicBezTo>
              </a:path>
              <a:path w="1752" h="441">
                <a:moveTo>
                  <a:pt x="10966" y="13387"/>
                </a:moveTo>
                <a:cubicBezTo>
                  <a:pt x="10931" y="13430"/>
                  <a:pt x="10891" y="13469"/>
                  <a:pt x="10857" y="13513"/>
                </a:cubicBezTo>
                <a:cubicBezTo>
                  <a:pt x="10821" y="13560"/>
                  <a:pt x="10773" y="13616"/>
                  <a:pt x="10780" y="13676"/>
                </a:cubicBezTo>
                <a:cubicBezTo>
                  <a:pt x="10829" y="13685"/>
                  <a:pt x="10863" y="13660"/>
                  <a:pt x="10905" y="13634"/>
                </a:cubicBezTo>
                <a:cubicBezTo>
                  <a:pt x="10971" y="13593"/>
                  <a:pt x="11029" y="13541"/>
                  <a:pt x="11090" y="13493"/>
                </a:cubicBezTo>
                <a:cubicBezTo>
                  <a:pt x="11124" y="13467"/>
                  <a:pt x="11155" y="13442"/>
                  <a:pt x="11183" y="13410"/>
                </a:cubicBezTo>
              </a:path>
              <a:path w="1752" h="441">
                <a:moveTo>
                  <a:pt x="11004" y="13516"/>
                </a:moveTo>
                <a:cubicBezTo>
                  <a:pt x="10990" y="13552"/>
                  <a:pt x="10978" y="13586"/>
                  <a:pt x="10975" y="13625"/>
                </a:cubicBezTo>
                <a:cubicBezTo>
                  <a:pt x="10973" y="13653"/>
                  <a:pt x="10974" y="13690"/>
                  <a:pt x="10988" y="13715"/>
                </a:cubicBezTo>
                <a:cubicBezTo>
                  <a:pt x="11004" y="13737"/>
                  <a:pt x="11008" y="13744"/>
                  <a:pt x="11029" y="13732"/>
                </a:cubicBezTo>
              </a:path>
              <a:path w="1752" h="441">
                <a:moveTo>
                  <a:pt x="11529" y="13427"/>
                </a:moveTo>
                <a:cubicBezTo>
                  <a:pt x="11534" y="13418"/>
                  <a:pt x="11539" y="13409"/>
                  <a:pt x="11544" y="13400"/>
                </a:cubicBezTo>
                <a:cubicBezTo>
                  <a:pt x="11516" y="13388"/>
                  <a:pt x="11499" y="13394"/>
                  <a:pt x="11467" y="13399"/>
                </a:cubicBezTo>
                <a:cubicBezTo>
                  <a:pt x="11444" y="13403"/>
                  <a:pt x="11413" y="13415"/>
                  <a:pt x="11398" y="13436"/>
                </a:cubicBezTo>
                <a:cubicBezTo>
                  <a:pt x="11373" y="13472"/>
                  <a:pt x="11380" y="13499"/>
                  <a:pt x="11387" y="13539"/>
                </a:cubicBezTo>
                <a:cubicBezTo>
                  <a:pt x="11396" y="13588"/>
                  <a:pt x="11398" y="13630"/>
                  <a:pt x="11368" y="13672"/>
                </a:cubicBezTo>
                <a:cubicBezTo>
                  <a:pt x="11343" y="13708"/>
                  <a:pt x="11302" y="13734"/>
                  <a:pt x="11262" y="13750"/>
                </a:cubicBezTo>
                <a:cubicBezTo>
                  <a:pt x="11237" y="13760"/>
                  <a:pt x="11221" y="13761"/>
                  <a:pt x="11196" y="1375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343400" y="4795920"/>
            <a:ext cx="334800" cy="152280"/>
          </a:xfrm>
          <a:custGeom>
            <a:avLst/>
            <a:gdLst/>
            <a:ahLst/>
            <a:rect l="l" t="t" r="r" b="b"/>
            <a:pathLst>
              <a:path w="930" h="424">
                <a:moveTo>
                  <a:pt x="12273" y="13381"/>
                </a:moveTo>
                <a:cubicBezTo>
                  <a:pt x="12227" y="13427"/>
                  <a:pt x="12193" y="13475"/>
                  <a:pt x="12158" y="13530"/>
                </a:cubicBezTo>
                <a:cubicBezTo>
                  <a:pt x="12124" y="13585"/>
                  <a:pt x="12095" y="13641"/>
                  <a:pt x="12075" y="13702"/>
                </a:cubicBezTo>
                <a:cubicBezTo>
                  <a:pt x="12069" y="13725"/>
                  <a:pt x="12067" y="13730"/>
                  <a:pt x="12066" y="13744"/>
                </a:cubicBezTo>
              </a:path>
              <a:path w="930" h="424">
                <a:moveTo>
                  <a:pt x="12455" y="13388"/>
                </a:moveTo>
                <a:cubicBezTo>
                  <a:pt x="12435" y="13433"/>
                  <a:pt x="12405" y="13469"/>
                  <a:pt x="12379" y="13511"/>
                </a:cubicBezTo>
                <a:cubicBezTo>
                  <a:pt x="12355" y="13550"/>
                  <a:pt x="12334" y="13591"/>
                  <a:pt x="12316" y="13633"/>
                </a:cubicBezTo>
                <a:cubicBezTo>
                  <a:pt x="12362" y="13620"/>
                  <a:pt x="12385" y="13579"/>
                  <a:pt x="12415" y="13539"/>
                </a:cubicBezTo>
                <a:cubicBezTo>
                  <a:pt x="12453" y="13489"/>
                  <a:pt x="12489" y="13438"/>
                  <a:pt x="12529" y="13389"/>
                </a:cubicBezTo>
                <a:cubicBezTo>
                  <a:pt x="12546" y="13369"/>
                  <a:pt x="12550" y="13362"/>
                  <a:pt x="12566" y="13356"/>
                </a:cubicBezTo>
                <a:cubicBezTo>
                  <a:pt x="12557" y="13406"/>
                  <a:pt x="12540" y="13457"/>
                  <a:pt x="12542" y="13508"/>
                </a:cubicBezTo>
                <a:cubicBezTo>
                  <a:pt x="12544" y="13563"/>
                  <a:pt x="12573" y="13601"/>
                  <a:pt x="12630" y="13603"/>
                </a:cubicBezTo>
                <a:cubicBezTo>
                  <a:pt x="12704" y="13606"/>
                  <a:pt x="12781" y="13554"/>
                  <a:pt x="12836" y="13511"/>
                </a:cubicBezTo>
                <a:cubicBezTo>
                  <a:pt x="12902" y="13460"/>
                  <a:pt x="12964" y="13399"/>
                  <a:pt x="12995" y="13321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524400" y="5095800"/>
            <a:ext cx="1272960" cy="189000"/>
          </a:xfrm>
          <a:custGeom>
            <a:avLst/>
            <a:gdLst/>
            <a:ahLst/>
            <a:rect l="l" t="t" r="r" b="b"/>
            <a:pathLst>
              <a:path w="3535" h="523">
                <a:moveTo>
                  <a:pt x="10134" y="14188"/>
                </a:moveTo>
                <a:cubicBezTo>
                  <a:pt x="10136" y="14171"/>
                  <a:pt x="10135" y="14164"/>
                  <a:pt x="10121" y="14157"/>
                </a:cubicBezTo>
                <a:cubicBezTo>
                  <a:pt x="10075" y="14165"/>
                  <a:pt x="10034" y="14182"/>
                  <a:pt x="9992" y="14204"/>
                </a:cubicBezTo>
                <a:cubicBezTo>
                  <a:pt x="9936" y="14233"/>
                  <a:pt x="9881" y="14269"/>
                  <a:pt x="9831" y="14307"/>
                </a:cubicBezTo>
                <a:cubicBezTo>
                  <a:pt x="9808" y="14326"/>
                  <a:pt x="9802" y="14330"/>
                  <a:pt x="9790" y="14344"/>
                </a:cubicBezTo>
                <a:cubicBezTo>
                  <a:pt x="9826" y="14379"/>
                  <a:pt x="9862" y="14373"/>
                  <a:pt x="9913" y="14382"/>
                </a:cubicBezTo>
                <a:cubicBezTo>
                  <a:pt x="9959" y="14390"/>
                  <a:pt x="10026" y="14404"/>
                  <a:pt x="10059" y="14441"/>
                </a:cubicBezTo>
                <a:cubicBezTo>
                  <a:pt x="10094" y="14481"/>
                  <a:pt x="10063" y="14534"/>
                  <a:pt x="10037" y="14568"/>
                </a:cubicBezTo>
                <a:cubicBezTo>
                  <a:pt x="10005" y="14610"/>
                  <a:pt x="9957" y="14655"/>
                  <a:pt x="9906" y="14673"/>
                </a:cubicBezTo>
                <a:cubicBezTo>
                  <a:pt x="9879" y="14683"/>
                  <a:pt x="9828" y="14689"/>
                  <a:pt x="9826" y="14648"/>
                </a:cubicBezTo>
                <a:cubicBezTo>
                  <a:pt x="9828" y="14640"/>
                  <a:pt x="9829" y="14632"/>
                  <a:pt x="9831" y="14624"/>
                </a:cubicBezTo>
              </a:path>
              <a:path w="3535" h="523">
                <a:moveTo>
                  <a:pt x="10280" y="14292"/>
                </a:moveTo>
                <a:cubicBezTo>
                  <a:pt x="10326" y="14300"/>
                  <a:pt x="10283" y="14345"/>
                  <a:pt x="10264" y="14377"/>
                </a:cubicBezTo>
                <a:cubicBezTo>
                  <a:pt x="10226" y="14441"/>
                  <a:pt x="10184" y="14504"/>
                  <a:pt x="10150" y="14570"/>
                </a:cubicBezTo>
                <a:cubicBezTo>
                  <a:pt x="10148" y="14574"/>
                  <a:pt x="10099" y="14651"/>
                  <a:pt x="10135" y="14615"/>
                </a:cubicBezTo>
              </a:path>
              <a:path w="3535" h="523">
                <a:moveTo>
                  <a:pt x="10109" y="14334"/>
                </a:moveTo>
                <a:cubicBezTo>
                  <a:pt x="10152" y="14316"/>
                  <a:pt x="10192" y="14315"/>
                  <a:pt x="10239" y="14311"/>
                </a:cubicBezTo>
                <a:cubicBezTo>
                  <a:pt x="10315" y="14304"/>
                  <a:pt x="10391" y="14301"/>
                  <a:pt x="10467" y="14293"/>
                </a:cubicBezTo>
                <a:cubicBezTo>
                  <a:pt x="10517" y="14287"/>
                  <a:pt x="10532" y="14286"/>
                  <a:pt x="10564" y="14280"/>
                </a:cubicBezTo>
              </a:path>
              <a:path w="3535" h="523">
                <a:moveTo>
                  <a:pt x="10569" y="14296"/>
                </a:moveTo>
                <a:cubicBezTo>
                  <a:pt x="10546" y="14339"/>
                  <a:pt x="10521" y="14381"/>
                  <a:pt x="10500" y="14426"/>
                </a:cubicBezTo>
                <a:cubicBezTo>
                  <a:pt x="10473" y="14483"/>
                  <a:pt x="10446" y="14539"/>
                  <a:pt x="10425" y="14598"/>
                </a:cubicBezTo>
                <a:cubicBezTo>
                  <a:pt x="10417" y="14623"/>
                  <a:pt x="10414" y="14632"/>
                  <a:pt x="10441" y="14619"/>
                </a:cubicBezTo>
              </a:path>
              <a:path w="3535" h="523">
                <a:moveTo>
                  <a:pt x="10549" y="14307"/>
                </a:moveTo>
                <a:cubicBezTo>
                  <a:pt x="10568" y="14275"/>
                  <a:pt x="10584" y="14262"/>
                  <a:pt x="10622" y="14258"/>
                </a:cubicBezTo>
                <a:cubicBezTo>
                  <a:pt x="10682" y="14252"/>
                  <a:pt x="10756" y="14248"/>
                  <a:pt x="10814" y="14268"/>
                </a:cubicBezTo>
                <a:cubicBezTo>
                  <a:pt x="10819" y="14271"/>
                  <a:pt x="10825" y="14273"/>
                  <a:pt x="10830" y="14276"/>
                </a:cubicBezTo>
                <a:cubicBezTo>
                  <a:pt x="10817" y="14321"/>
                  <a:pt x="10783" y="14329"/>
                  <a:pt x="10742" y="14356"/>
                </a:cubicBezTo>
                <a:cubicBezTo>
                  <a:pt x="10684" y="14393"/>
                  <a:pt x="10624" y="14433"/>
                  <a:pt x="10577" y="14483"/>
                </a:cubicBezTo>
                <a:cubicBezTo>
                  <a:pt x="10551" y="14511"/>
                  <a:pt x="10537" y="14539"/>
                  <a:pt x="10522" y="14573"/>
                </a:cubicBezTo>
                <a:cubicBezTo>
                  <a:pt x="10578" y="14594"/>
                  <a:pt x="10605" y="14581"/>
                  <a:pt x="10659" y="14551"/>
                </a:cubicBezTo>
                <a:cubicBezTo>
                  <a:pt x="10703" y="14525"/>
                  <a:pt x="10717" y="14516"/>
                  <a:pt x="10744" y="14494"/>
                </a:cubicBezTo>
              </a:path>
              <a:path w="3535" h="523">
                <a:moveTo>
                  <a:pt x="10971" y="14268"/>
                </a:moveTo>
                <a:cubicBezTo>
                  <a:pt x="10948" y="14301"/>
                  <a:pt x="10923" y="14334"/>
                  <a:pt x="10905" y="14371"/>
                </a:cubicBezTo>
                <a:cubicBezTo>
                  <a:pt x="10888" y="14406"/>
                  <a:pt x="10867" y="14460"/>
                  <a:pt x="10891" y="14497"/>
                </a:cubicBezTo>
                <a:cubicBezTo>
                  <a:pt x="10916" y="14534"/>
                  <a:pt x="10977" y="14519"/>
                  <a:pt x="11009" y="14503"/>
                </a:cubicBezTo>
                <a:cubicBezTo>
                  <a:pt x="11052" y="14482"/>
                  <a:pt x="11097" y="14441"/>
                  <a:pt x="11122" y="14400"/>
                </a:cubicBezTo>
                <a:cubicBezTo>
                  <a:pt x="11138" y="14374"/>
                  <a:pt x="11135" y="14351"/>
                  <a:pt x="11130" y="14323"/>
                </a:cubicBezTo>
              </a:path>
              <a:path w="3535" h="523">
                <a:moveTo>
                  <a:pt x="11527" y="14313"/>
                </a:moveTo>
                <a:cubicBezTo>
                  <a:pt x="11523" y="14270"/>
                  <a:pt x="11490" y="14287"/>
                  <a:pt x="11456" y="14304"/>
                </a:cubicBezTo>
                <a:cubicBezTo>
                  <a:pt x="11395" y="14334"/>
                  <a:pt x="11344" y="14381"/>
                  <a:pt x="11301" y="14434"/>
                </a:cubicBezTo>
                <a:cubicBezTo>
                  <a:pt x="11281" y="14459"/>
                  <a:pt x="11224" y="14528"/>
                  <a:pt x="11265" y="14560"/>
                </a:cubicBezTo>
                <a:cubicBezTo>
                  <a:pt x="11304" y="14591"/>
                  <a:pt x="11387" y="14559"/>
                  <a:pt x="11425" y="14545"/>
                </a:cubicBezTo>
                <a:cubicBezTo>
                  <a:pt x="11483" y="14524"/>
                  <a:pt x="11534" y="14491"/>
                  <a:pt x="11587" y="14460"/>
                </a:cubicBezTo>
              </a:path>
              <a:path w="3535" h="523">
                <a:moveTo>
                  <a:pt x="11826" y="14268"/>
                </a:moveTo>
                <a:cubicBezTo>
                  <a:pt x="11826" y="14232"/>
                  <a:pt x="11766" y="14307"/>
                  <a:pt x="11741" y="14332"/>
                </a:cubicBezTo>
                <a:cubicBezTo>
                  <a:pt x="11694" y="14379"/>
                  <a:pt x="11648" y="14431"/>
                  <a:pt x="11610" y="14486"/>
                </a:cubicBezTo>
                <a:cubicBezTo>
                  <a:pt x="11605" y="14494"/>
                  <a:pt x="11556" y="14562"/>
                  <a:pt x="11605" y="14505"/>
                </a:cubicBezTo>
              </a:path>
              <a:path w="3535" h="523">
                <a:moveTo>
                  <a:pt x="11567" y="14280"/>
                </a:moveTo>
                <a:cubicBezTo>
                  <a:pt x="11554" y="14246"/>
                  <a:pt x="11593" y="14259"/>
                  <a:pt x="11632" y="14255"/>
                </a:cubicBezTo>
                <a:cubicBezTo>
                  <a:pt x="11706" y="14248"/>
                  <a:pt x="11779" y="14239"/>
                  <a:pt x="11853" y="14236"/>
                </a:cubicBezTo>
                <a:cubicBezTo>
                  <a:pt x="11907" y="14234"/>
                  <a:pt x="11961" y="14233"/>
                  <a:pt x="12015" y="14232"/>
                </a:cubicBezTo>
              </a:path>
              <a:path w="3535" h="523">
                <a:moveTo>
                  <a:pt x="12111" y="14260"/>
                </a:moveTo>
                <a:cubicBezTo>
                  <a:pt x="12065" y="14279"/>
                  <a:pt x="12035" y="14309"/>
                  <a:pt x="12005" y="14351"/>
                </a:cubicBezTo>
                <a:cubicBezTo>
                  <a:pt x="11975" y="14393"/>
                  <a:pt x="11913" y="14485"/>
                  <a:pt x="11950" y="14537"/>
                </a:cubicBezTo>
                <a:cubicBezTo>
                  <a:pt x="11981" y="14581"/>
                  <a:pt x="12070" y="14546"/>
                  <a:pt x="12105" y="14529"/>
                </a:cubicBezTo>
                <a:cubicBezTo>
                  <a:pt x="12166" y="14499"/>
                  <a:pt x="12233" y="14454"/>
                  <a:pt x="12277" y="14401"/>
                </a:cubicBezTo>
                <a:cubicBezTo>
                  <a:pt x="12296" y="14372"/>
                  <a:pt x="12302" y="14364"/>
                  <a:pt x="12310" y="14343"/>
                </a:cubicBezTo>
              </a:path>
              <a:path w="3535" h="523">
                <a:moveTo>
                  <a:pt x="12498" y="14324"/>
                </a:moveTo>
                <a:cubicBezTo>
                  <a:pt x="12545" y="14267"/>
                  <a:pt x="12468" y="14371"/>
                  <a:pt x="12461" y="14383"/>
                </a:cubicBezTo>
                <a:cubicBezTo>
                  <a:pt x="12439" y="14422"/>
                  <a:pt x="12414" y="14464"/>
                  <a:pt x="12407" y="14509"/>
                </a:cubicBezTo>
                <a:cubicBezTo>
                  <a:pt x="12407" y="14515"/>
                  <a:pt x="12406" y="14521"/>
                  <a:pt x="12406" y="14527"/>
                </a:cubicBezTo>
                <a:cubicBezTo>
                  <a:pt x="12426" y="14487"/>
                  <a:pt x="12446" y="14448"/>
                  <a:pt x="12460" y="14405"/>
                </a:cubicBezTo>
                <a:cubicBezTo>
                  <a:pt x="12475" y="14361"/>
                  <a:pt x="12483" y="14315"/>
                  <a:pt x="12497" y="14271"/>
                </a:cubicBezTo>
                <a:cubicBezTo>
                  <a:pt x="12511" y="14229"/>
                  <a:pt x="12513" y="14215"/>
                  <a:pt x="12560" y="14205"/>
                </a:cubicBezTo>
                <a:cubicBezTo>
                  <a:pt x="12627" y="14191"/>
                  <a:pt x="12745" y="14183"/>
                  <a:pt x="12806" y="14218"/>
                </a:cubicBezTo>
                <a:cubicBezTo>
                  <a:pt x="12811" y="14223"/>
                  <a:pt x="12816" y="14227"/>
                  <a:pt x="12821" y="14232"/>
                </a:cubicBezTo>
                <a:cubicBezTo>
                  <a:pt x="12813" y="14270"/>
                  <a:pt x="12784" y="14292"/>
                  <a:pt x="12753" y="14317"/>
                </a:cubicBezTo>
                <a:cubicBezTo>
                  <a:pt x="12709" y="14352"/>
                  <a:pt x="12661" y="14381"/>
                  <a:pt x="12618" y="14417"/>
                </a:cubicBezTo>
                <a:cubicBezTo>
                  <a:pt x="12601" y="14433"/>
                  <a:pt x="12596" y="14436"/>
                  <a:pt x="12598" y="14453"/>
                </a:cubicBezTo>
                <a:cubicBezTo>
                  <a:pt x="12645" y="14451"/>
                  <a:pt x="12683" y="14430"/>
                  <a:pt x="12726" y="14412"/>
                </a:cubicBezTo>
              </a:path>
              <a:path w="3535" h="523">
                <a:moveTo>
                  <a:pt x="13026" y="14246"/>
                </a:moveTo>
                <a:cubicBezTo>
                  <a:pt x="13006" y="14289"/>
                  <a:pt x="12977" y="14326"/>
                  <a:pt x="12955" y="14369"/>
                </a:cubicBezTo>
                <a:cubicBezTo>
                  <a:pt x="12941" y="14397"/>
                  <a:pt x="12901" y="14459"/>
                  <a:pt x="12920" y="14491"/>
                </a:cubicBezTo>
                <a:cubicBezTo>
                  <a:pt x="12939" y="14523"/>
                  <a:pt x="13000" y="14502"/>
                  <a:pt x="13024" y="14493"/>
                </a:cubicBezTo>
                <a:cubicBezTo>
                  <a:pt x="13063" y="14478"/>
                  <a:pt x="13094" y="14453"/>
                  <a:pt x="13127" y="14428"/>
                </a:cubicBezTo>
              </a:path>
              <a:path w="3535" h="523">
                <a:moveTo>
                  <a:pt x="13024" y="14340"/>
                </a:moveTo>
                <a:cubicBezTo>
                  <a:pt x="13018" y="14349"/>
                  <a:pt x="13013" y="14357"/>
                  <a:pt x="13007" y="14366"/>
                </a:cubicBezTo>
                <a:cubicBezTo>
                  <a:pt x="13037" y="14389"/>
                  <a:pt x="13053" y="14388"/>
                  <a:pt x="13092" y="14379"/>
                </a:cubicBezTo>
                <a:cubicBezTo>
                  <a:pt x="13121" y="14372"/>
                  <a:pt x="13139" y="14362"/>
                  <a:pt x="13163" y="14346"/>
                </a:cubicBezTo>
              </a:path>
              <a:path w="3535" h="523">
                <a:moveTo>
                  <a:pt x="13009" y="14184"/>
                </a:moveTo>
                <a:cubicBezTo>
                  <a:pt x="13047" y="14216"/>
                  <a:pt x="13080" y="14211"/>
                  <a:pt x="13131" y="14213"/>
                </a:cubicBezTo>
                <a:cubicBezTo>
                  <a:pt x="13196" y="14216"/>
                  <a:pt x="13259" y="14212"/>
                  <a:pt x="13324" y="1420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4960" y="5010120"/>
            <a:ext cx="657360" cy="193680"/>
          </a:xfrm>
          <a:custGeom>
            <a:avLst/>
            <a:gdLst/>
            <a:ahLst/>
            <a:rect l="l" t="t" r="r" b="b"/>
            <a:pathLst>
              <a:path w="1825" h="540">
                <a:moveTo>
                  <a:pt x="13792" y="14190"/>
                </a:moveTo>
                <a:cubicBezTo>
                  <a:pt x="13803" y="14168"/>
                  <a:pt x="13813" y="14145"/>
                  <a:pt x="13824" y="14123"/>
                </a:cubicBezTo>
                <a:cubicBezTo>
                  <a:pt x="13801" y="14170"/>
                  <a:pt x="13782" y="14219"/>
                  <a:pt x="13766" y="14269"/>
                </a:cubicBezTo>
                <a:cubicBezTo>
                  <a:pt x="13752" y="14310"/>
                  <a:pt x="13711" y="14408"/>
                  <a:pt x="13746" y="14448"/>
                </a:cubicBezTo>
                <a:cubicBezTo>
                  <a:pt x="13774" y="14480"/>
                  <a:pt x="13839" y="14423"/>
                  <a:pt x="13857" y="14409"/>
                </a:cubicBezTo>
                <a:cubicBezTo>
                  <a:pt x="13927" y="14353"/>
                  <a:pt x="13986" y="14285"/>
                  <a:pt x="14046" y="14219"/>
                </a:cubicBezTo>
                <a:cubicBezTo>
                  <a:pt x="14067" y="14195"/>
                  <a:pt x="14189" y="14051"/>
                  <a:pt x="14174" y="14086"/>
                </a:cubicBezTo>
                <a:cubicBezTo>
                  <a:pt x="14169" y="14094"/>
                  <a:pt x="14164" y="14102"/>
                  <a:pt x="14159" y="14110"/>
                </a:cubicBezTo>
              </a:path>
              <a:path w="1825" h="540">
                <a:moveTo>
                  <a:pt x="14274" y="14154"/>
                </a:moveTo>
                <a:cubicBezTo>
                  <a:pt x="14287" y="14138"/>
                  <a:pt x="14292" y="14133"/>
                  <a:pt x="14299" y="14121"/>
                </a:cubicBezTo>
                <a:cubicBezTo>
                  <a:pt x="14274" y="14159"/>
                  <a:pt x="14250" y="14196"/>
                  <a:pt x="14229" y="14236"/>
                </a:cubicBezTo>
                <a:cubicBezTo>
                  <a:pt x="14201" y="14289"/>
                  <a:pt x="14172" y="14343"/>
                  <a:pt x="14174" y="14403"/>
                </a:cubicBezTo>
              </a:path>
              <a:path w="1825" h="540">
                <a:moveTo>
                  <a:pt x="14486" y="14196"/>
                </a:moveTo>
                <a:cubicBezTo>
                  <a:pt x="14465" y="14221"/>
                  <a:pt x="14443" y="14247"/>
                  <a:pt x="14426" y="14276"/>
                </a:cubicBezTo>
                <a:cubicBezTo>
                  <a:pt x="14408" y="14307"/>
                  <a:pt x="14384" y="14350"/>
                  <a:pt x="14397" y="14387"/>
                </a:cubicBezTo>
                <a:cubicBezTo>
                  <a:pt x="14411" y="14425"/>
                  <a:pt x="14462" y="14426"/>
                  <a:pt x="14495" y="14423"/>
                </a:cubicBezTo>
                <a:cubicBezTo>
                  <a:pt x="14542" y="14418"/>
                  <a:pt x="14589" y="14396"/>
                  <a:pt x="14627" y="14368"/>
                </a:cubicBezTo>
                <a:cubicBezTo>
                  <a:pt x="14634" y="14362"/>
                  <a:pt x="14641" y="14355"/>
                  <a:pt x="14648" y="14349"/>
                </a:cubicBezTo>
              </a:path>
              <a:path w="1825" h="540">
                <a:moveTo>
                  <a:pt x="14565" y="14238"/>
                </a:moveTo>
                <a:cubicBezTo>
                  <a:pt x="14557" y="14242"/>
                  <a:pt x="14550" y="14246"/>
                  <a:pt x="14542" y="14250"/>
                </a:cubicBezTo>
                <a:cubicBezTo>
                  <a:pt x="14573" y="14273"/>
                  <a:pt x="14588" y="14268"/>
                  <a:pt x="14626" y="14258"/>
                </a:cubicBezTo>
                <a:cubicBezTo>
                  <a:pt x="14661" y="14249"/>
                  <a:pt x="14674" y="14237"/>
                  <a:pt x="14686" y="14205"/>
                </a:cubicBezTo>
              </a:path>
              <a:path w="1825" h="540">
                <a:moveTo>
                  <a:pt x="14545" y="14074"/>
                </a:moveTo>
                <a:cubicBezTo>
                  <a:pt x="14584" y="14062"/>
                  <a:pt x="14614" y="14063"/>
                  <a:pt x="14654" y="14064"/>
                </a:cubicBezTo>
                <a:cubicBezTo>
                  <a:pt x="14696" y="14065"/>
                  <a:pt x="14739" y="14067"/>
                  <a:pt x="14781" y="14068"/>
                </a:cubicBezTo>
              </a:path>
              <a:path w="1825" h="540">
                <a:moveTo>
                  <a:pt x="14909" y="14157"/>
                </a:moveTo>
                <a:cubicBezTo>
                  <a:pt x="14916" y="14149"/>
                  <a:pt x="14924" y="14140"/>
                  <a:pt x="14931" y="14132"/>
                </a:cubicBezTo>
                <a:cubicBezTo>
                  <a:pt x="14932" y="14175"/>
                  <a:pt x="14920" y="14203"/>
                  <a:pt x="14903" y="14243"/>
                </a:cubicBezTo>
                <a:cubicBezTo>
                  <a:pt x="14888" y="14279"/>
                  <a:pt x="14877" y="14311"/>
                  <a:pt x="14874" y="14350"/>
                </a:cubicBezTo>
                <a:cubicBezTo>
                  <a:pt x="14916" y="14366"/>
                  <a:pt x="14935" y="14348"/>
                  <a:pt x="14973" y="14321"/>
                </a:cubicBezTo>
                <a:cubicBezTo>
                  <a:pt x="15009" y="14296"/>
                  <a:pt x="15041" y="14266"/>
                  <a:pt x="15077" y="14242"/>
                </a:cubicBezTo>
                <a:cubicBezTo>
                  <a:pt x="15088" y="14275"/>
                  <a:pt x="15071" y="14298"/>
                  <a:pt x="15067" y="14335"/>
                </a:cubicBezTo>
                <a:cubicBezTo>
                  <a:pt x="15063" y="14373"/>
                  <a:pt x="15077" y="14398"/>
                  <a:pt x="15118" y="14392"/>
                </a:cubicBezTo>
                <a:cubicBezTo>
                  <a:pt x="15186" y="14382"/>
                  <a:pt x="15246" y="14329"/>
                  <a:pt x="15293" y="14284"/>
                </a:cubicBezTo>
                <a:cubicBezTo>
                  <a:pt x="15381" y="14199"/>
                  <a:pt x="15450" y="14093"/>
                  <a:pt x="15513" y="13989"/>
                </a:cubicBezTo>
                <a:cubicBezTo>
                  <a:pt x="15528" y="13964"/>
                  <a:pt x="15543" y="13940"/>
                  <a:pt x="15560" y="1391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33960" y="1349280"/>
            <a:ext cx="1501920" cy="327240"/>
          </a:xfrm>
          <a:custGeom>
            <a:avLst/>
            <a:gdLst/>
            <a:ahLst/>
            <a:rect l="l" t="t" r="r" b="b"/>
            <a:pathLst>
              <a:path w="4172" h="909">
                <a:moveTo>
                  <a:pt x="14412" y="3991"/>
                </a:moveTo>
                <a:cubicBezTo>
                  <a:pt x="14547" y="3922"/>
                  <a:pt x="14673" y="3934"/>
                  <a:pt x="14823" y="3957"/>
                </a:cubicBezTo>
                <a:cubicBezTo>
                  <a:pt x="15236" y="4020"/>
                  <a:pt x="15646" y="4140"/>
                  <a:pt x="16037" y="4286"/>
                </a:cubicBezTo>
                <a:cubicBezTo>
                  <a:pt x="16104" y="4312"/>
                  <a:pt x="16124" y="4319"/>
                  <a:pt x="16166" y="4340"/>
                </a:cubicBezTo>
              </a:path>
              <a:path w="4172" h="909">
                <a:moveTo>
                  <a:pt x="14560" y="3767"/>
                </a:moveTo>
                <a:cubicBezTo>
                  <a:pt x="14561" y="3735"/>
                  <a:pt x="14525" y="3793"/>
                  <a:pt x="14497" y="3815"/>
                </a:cubicBezTo>
                <a:cubicBezTo>
                  <a:pt x="14453" y="3850"/>
                  <a:pt x="14405" y="3879"/>
                  <a:pt x="14359" y="3911"/>
                </a:cubicBezTo>
                <a:cubicBezTo>
                  <a:pt x="14327" y="3933"/>
                  <a:pt x="14277" y="3964"/>
                  <a:pt x="14263" y="4003"/>
                </a:cubicBezTo>
                <a:cubicBezTo>
                  <a:pt x="14247" y="4046"/>
                  <a:pt x="14306" y="4068"/>
                  <a:pt x="14335" y="4080"/>
                </a:cubicBezTo>
                <a:cubicBezTo>
                  <a:pt x="14420" y="4114"/>
                  <a:pt x="14514" y="4131"/>
                  <a:pt x="14604" y="4147"/>
                </a:cubicBezTo>
                <a:cubicBezTo>
                  <a:pt x="14652" y="4155"/>
                  <a:pt x="14667" y="4157"/>
                  <a:pt x="14698" y="4163"/>
                </a:cubicBezTo>
              </a:path>
              <a:path w="4172" h="909">
                <a:moveTo>
                  <a:pt x="16611" y="4250"/>
                </a:moveTo>
                <a:cubicBezTo>
                  <a:pt x="16604" y="4301"/>
                  <a:pt x="16595" y="4351"/>
                  <a:pt x="16586" y="4402"/>
                </a:cubicBezTo>
                <a:cubicBezTo>
                  <a:pt x="16576" y="4454"/>
                  <a:pt x="16564" y="4504"/>
                  <a:pt x="16551" y="4555"/>
                </a:cubicBezTo>
                <a:cubicBezTo>
                  <a:pt x="16550" y="4560"/>
                  <a:pt x="16548" y="4566"/>
                  <a:pt x="16547" y="4571"/>
                </a:cubicBezTo>
              </a:path>
              <a:path w="4172" h="909">
                <a:moveTo>
                  <a:pt x="16534" y="4231"/>
                </a:moveTo>
                <a:cubicBezTo>
                  <a:pt x="16546" y="4194"/>
                  <a:pt x="16558" y="4168"/>
                  <a:pt x="16595" y="4148"/>
                </a:cubicBezTo>
                <a:cubicBezTo>
                  <a:pt x="16649" y="4119"/>
                  <a:pt x="16716" y="4101"/>
                  <a:pt x="16775" y="4087"/>
                </a:cubicBezTo>
                <a:cubicBezTo>
                  <a:pt x="16833" y="4073"/>
                  <a:pt x="16891" y="4066"/>
                  <a:pt x="16950" y="4067"/>
                </a:cubicBezTo>
                <a:cubicBezTo>
                  <a:pt x="16956" y="4123"/>
                  <a:pt x="16904" y="4140"/>
                  <a:pt x="16852" y="4172"/>
                </a:cubicBezTo>
                <a:cubicBezTo>
                  <a:pt x="16791" y="4210"/>
                  <a:pt x="16726" y="4245"/>
                  <a:pt x="16663" y="4280"/>
                </a:cubicBezTo>
                <a:cubicBezTo>
                  <a:pt x="16655" y="4284"/>
                  <a:pt x="16647" y="4289"/>
                  <a:pt x="16639" y="4293"/>
                </a:cubicBezTo>
                <a:cubicBezTo>
                  <a:pt x="16700" y="4304"/>
                  <a:pt x="16760" y="4297"/>
                  <a:pt x="16821" y="4308"/>
                </a:cubicBezTo>
                <a:cubicBezTo>
                  <a:pt x="16870" y="4317"/>
                  <a:pt x="16924" y="4342"/>
                  <a:pt x="16904" y="4402"/>
                </a:cubicBezTo>
                <a:cubicBezTo>
                  <a:pt x="16882" y="4468"/>
                  <a:pt x="16806" y="4527"/>
                  <a:pt x="16753" y="4567"/>
                </a:cubicBezTo>
                <a:cubicBezTo>
                  <a:pt x="16703" y="4604"/>
                  <a:pt x="16650" y="4632"/>
                  <a:pt x="16593" y="4657"/>
                </a:cubicBezTo>
              </a:path>
              <a:path w="4172" h="909">
                <a:moveTo>
                  <a:pt x="17130" y="4166"/>
                </a:moveTo>
                <a:cubicBezTo>
                  <a:pt x="17168" y="4173"/>
                  <a:pt x="17128" y="4222"/>
                  <a:pt x="17112" y="4264"/>
                </a:cubicBezTo>
                <a:cubicBezTo>
                  <a:pt x="17093" y="4313"/>
                  <a:pt x="17066" y="4381"/>
                  <a:pt x="17088" y="4434"/>
                </a:cubicBezTo>
                <a:cubicBezTo>
                  <a:pt x="17110" y="4486"/>
                  <a:pt x="17181" y="4455"/>
                  <a:pt x="17213" y="4436"/>
                </a:cubicBezTo>
                <a:cubicBezTo>
                  <a:pt x="17274" y="4400"/>
                  <a:pt x="17326" y="4341"/>
                  <a:pt x="17363" y="4282"/>
                </a:cubicBezTo>
                <a:cubicBezTo>
                  <a:pt x="17382" y="4252"/>
                  <a:pt x="17407" y="4206"/>
                  <a:pt x="17407" y="4168"/>
                </a:cubicBezTo>
                <a:cubicBezTo>
                  <a:pt x="17406" y="4163"/>
                  <a:pt x="17405" y="4157"/>
                  <a:pt x="17404" y="4152"/>
                </a:cubicBezTo>
              </a:path>
              <a:path w="4172" h="909">
                <a:moveTo>
                  <a:pt x="17550" y="4128"/>
                </a:moveTo>
                <a:cubicBezTo>
                  <a:pt x="17525" y="4171"/>
                  <a:pt x="17500" y="4212"/>
                  <a:pt x="17479" y="4257"/>
                </a:cubicBezTo>
                <a:cubicBezTo>
                  <a:pt x="17458" y="4303"/>
                  <a:pt x="17433" y="4350"/>
                  <a:pt x="17428" y="4401"/>
                </a:cubicBezTo>
                <a:cubicBezTo>
                  <a:pt x="17428" y="4406"/>
                  <a:pt x="17429" y="4411"/>
                  <a:pt x="17429" y="4416"/>
                </a:cubicBezTo>
              </a:path>
              <a:path w="4172" h="909">
                <a:moveTo>
                  <a:pt x="17734" y="4097"/>
                </a:moveTo>
                <a:cubicBezTo>
                  <a:pt x="17776" y="4093"/>
                  <a:pt x="17716" y="4154"/>
                  <a:pt x="17698" y="4183"/>
                </a:cubicBezTo>
                <a:cubicBezTo>
                  <a:pt x="17664" y="4237"/>
                  <a:pt x="17603" y="4313"/>
                  <a:pt x="17606" y="4380"/>
                </a:cubicBezTo>
                <a:cubicBezTo>
                  <a:pt x="17608" y="4430"/>
                  <a:pt x="17674" y="4416"/>
                  <a:pt x="17703" y="4406"/>
                </a:cubicBezTo>
                <a:cubicBezTo>
                  <a:pt x="17781" y="4380"/>
                  <a:pt x="17850" y="4324"/>
                  <a:pt x="17909" y="4269"/>
                </a:cubicBezTo>
              </a:path>
              <a:path w="4172" h="909">
                <a:moveTo>
                  <a:pt x="18081" y="4163"/>
                </a:moveTo>
                <a:cubicBezTo>
                  <a:pt x="18089" y="4160"/>
                  <a:pt x="18096" y="4158"/>
                  <a:pt x="18104" y="4155"/>
                </a:cubicBezTo>
                <a:cubicBezTo>
                  <a:pt x="18084" y="4201"/>
                  <a:pt x="18057" y="4242"/>
                  <a:pt x="18035" y="4287"/>
                </a:cubicBezTo>
                <a:cubicBezTo>
                  <a:pt x="18016" y="4326"/>
                  <a:pt x="18005" y="4362"/>
                  <a:pt x="18003" y="4405"/>
                </a:cubicBezTo>
                <a:cubicBezTo>
                  <a:pt x="18028" y="4406"/>
                  <a:pt x="18037" y="4406"/>
                  <a:pt x="18048" y="4388"/>
                </a:cubicBezTo>
              </a:path>
              <a:path w="4172" h="909">
                <a:moveTo>
                  <a:pt x="18130" y="4074"/>
                </a:moveTo>
                <a:cubicBezTo>
                  <a:pt x="18142" y="4037"/>
                  <a:pt x="18153" y="4027"/>
                  <a:pt x="18192" y="4017"/>
                </a:cubicBezTo>
                <a:cubicBezTo>
                  <a:pt x="18238" y="4005"/>
                  <a:pt x="18289" y="4012"/>
                  <a:pt x="18333" y="4029"/>
                </a:cubicBezTo>
                <a:cubicBezTo>
                  <a:pt x="18383" y="4048"/>
                  <a:pt x="18424" y="4080"/>
                  <a:pt x="18432" y="4135"/>
                </a:cubicBezTo>
                <a:cubicBezTo>
                  <a:pt x="18442" y="4202"/>
                  <a:pt x="18402" y="4260"/>
                  <a:pt x="18357" y="4305"/>
                </a:cubicBezTo>
                <a:cubicBezTo>
                  <a:pt x="18301" y="4360"/>
                  <a:pt x="18235" y="4398"/>
                  <a:pt x="18163" y="4426"/>
                </a:cubicBezTo>
                <a:cubicBezTo>
                  <a:pt x="18119" y="4443"/>
                  <a:pt x="18085" y="4459"/>
                  <a:pt x="18048" y="443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051600" y="1722600"/>
            <a:ext cx="1093680" cy="231480"/>
          </a:xfrm>
          <a:custGeom>
            <a:avLst/>
            <a:gdLst/>
            <a:ahLst/>
            <a:rect l="l" t="t" r="r" b="b"/>
            <a:pathLst>
              <a:path w="3041" h="646">
                <a:moveTo>
                  <a:pt x="17188" y="4935"/>
                </a:moveTo>
                <a:cubicBezTo>
                  <a:pt x="17190" y="4928"/>
                  <a:pt x="17193" y="4920"/>
                  <a:pt x="17195" y="4913"/>
                </a:cubicBezTo>
                <a:cubicBezTo>
                  <a:pt x="17142" y="4888"/>
                  <a:pt x="17101" y="4922"/>
                  <a:pt x="17052" y="4961"/>
                </a:cubicBezTo>
                <a:cubicBezTo>
                  <a:pt x="16973" y="5024"/>
                  <a:pt x="16900" y="5103"/>
                  <a:pt x="16851" y="5192"/>
                </a:cubicBezTo>
                <a:cubicBezTo>
                  <a:pt x="16821" y="5246"/>
                  <a:pt x="16779" y="5343"/>
                  <a:pt x="16828" y="5400"/>
                </a:cubicBezTo>
                <a:cubicBezTo>
                  <a:pt x="16877" y="5457"/>
                  <a:pt x="16987" y="5422"/>
                  <a:pt x="17043" y="5403"/>
                </a:cubicBezTo>
                <a:cubicBezTo>
                  <a:pt x="17115" y="5373"/>
                  <a:pt x="17139" y="5362"/>
                  <a:pt x="17185" y="5336"/>
                </a:cubicBezTo>
              </a:path>
              <a:path w="3041" h="646">
                <a:moveTo>
                  <a:pt x="17543" y="5000"/>
                </a:moveTo>
                <a:cubicBezTo>
                  <a:pt x="17494" y="5006"/>
                  <a:pt x="17461" y="5029"/>
                  <a:pt x="17424" y="5062"/>
                </a:cubicBezTo>
                <a:cubicBezTo>
                  <a:pt x="17366" y="5115"/>
                  <a:pt x="17316" y="5179"/>
                  <a:pt x="17298" y="5257"/>
                </a:cubicBezTo>
                <a:cubicBezTo>
                  <a:pt x="17283" y="5323"/>
                  <a:pt x="17324" y="5346"/>
                  <a:pt x="17384" y="5336"/>
                </a:cubicBezTo>
                <a:cubicBezTo>
                  <a:pt x="17469" y="5322"/>
                  <a:pt x="17545" y="5268"/>
                  <a:pt x="17603" y="5207"/>
                </a:cubicBezTo>
                <a:cubicBezTo>
                  <a:pt x="17641" y="5167"/>
                  <a:pt x="17692" y="5099"/>
                  <a:pt x="17673" y="5039"/>
                </a:cubicBezTo>
                <a:cubicBezTo>
                  <a:pt x="17661" y="5000"/>
                  <a:pt x="17619" y="4998"/>
                  <a:pt x="17587" y="4996"/>
                </a:cubicBezTo>
              </a:path>
              <a:path w="3041" h="646">
                <a:moveTo>
                  <a:pt x="17890" y="5023"/>
                </a:moveTo>
                <a:cubicBezTo>
                  <a:pt x="17871" y="5074"/>
                  <a:pt x="17845" y="5112"/>
                  <a:pt x="17816" y="5158"/>
                </a:cubicBezTo>
                <a:cubicBezTo>
                  <a:pt x="17790" y="5201"/>
                  <a:pt x="17763" y="5242"/>
                  <a:pt x="17735" y="5284"/>
                </a:cubicBezTo>
                <a:cubicBezTo>
                  <a:pt x="17781" y="5234"/>
                  <a:pt x="17821" y="5181"/>
                  <a:pt x="17860" y="5125"/>
                </a:cubicBezTo>
                <a:cubicBezTo>
                  <a:pt x="17897" y="5072"/>
                  <a:pt x="17933" y="5019"/>
                  <a:pt x="17969" y="4966"/>
                </a:cubicBezTo>
                <a:cubicBezTo>
                  <a:pt x="17954" y="5024"/>
                  <a:pt x="17932" y="5081"/>
                  <a:pt x="17924" y="5140"/>
                </a:cubicBezTo>
                <a:cubicBezTo>
                  <a:pt x="17919" y="5177"/>
                  <a:pt x="17920" y="5235"/>
                  <a:pt x="17973" y="5235"/>
                </a:cubicBezTo>
                <a:cubicBezTo>
                  <a:pt x="18030" y="5235"/>
                  <a:pt x="18098" y="5191"/>
                  <a:pt x="18142" y="5160"/>
                </a:cubicBezTo>
                <a:cubicBezTo>
                  <a:pt x="18185" y="5129"/>
                  <a:pt x="18232" y="5096"/>
                  <a:pt x="18265" y="5054"/>
                </a:cubicBezTo>
                <a:cubicBezTo>
                  <a:pt x="18271" y="5046"/>
                  <a:pt x="18276" y="5037"/>
                  <a:pt x="18282" y="5029"/>
                </a:cubicBezTo>
              </a:path>
              <a:path w="3041" h="646">
                <a:moveTo>
                  <a:pt x="18336" y="4935"/>
                </a:moveTo>
                <a:cubicBezTo>
                  <a:pt x="18341" y="4928"/>
                  <a:pt x="18347" y="4922"/>
                  <a:pt x="18352" y="4915"/>
                </a:cubicBezTo>
                <a:cubicBezTo>
                  <a:pt x="18357" y="4963"/>
                  <a:pt x="18340" y="5003"/>
                  <a:pt x="18328" y="5051"/>
                </a:cubicBezTo>
                <a:cubicBezTo>
                  <a:pt x="18317" y="5095"/>
                  <a:pt x="18272" y="5207"/>
                  <a:pt x="18294" y="5252"/>
                </a:cubicBezTo>
                <a:cubicBezTo>
                  <a:pt x="18317" y="5269"/>
                  <a:pt x="18327" y="5266"/>
                  <a:pt x="18335" y="5227"/>
                </a:cubicBezTo>
              </a:path>
              <a:path w="3041" h="646">
                <a:moveTo>
                  <a:pt x="18300" y="4896"/>
                </a:moveTo>
                <a:cubicBezTo>
                  <a:pt x="18301" y="4862"/>
                  <a:pt x="18317" y="4862"/>
                  <a:pt x="18350" y="4853"/>
                </a:cubicBezTo>
                <a:cubicBezTo>
                  <a:pt x="18410" y="4837"/>
                  <a:pt x="18472" y="4824"/>
                  <a:pt x="18533" y="4811"/>
                </a:cubicBezTo>
                <a:cubicBezTo>
                  <a:pt x="18592" y="4798"/>
                  <a:pt x="18652" y="4788"/>
                  <a:pt x="18712" y="4784"/>
                </a:cubicBezTo>
              </a:path>
              <a:path w="3041" h="646">
                <a:moveTo>
                  <a:pt x="18359" y="5056"/>
                </a:moveTo>
                <a:cubicBezTo>
                  <a:pt x="18347" y="5076"/>
                  <a:pt x="18343" y="5082"/>
                  <a:pt x="18352" y="5098"/>
                </a:cubicBezTo>
                <a:cubicBezTo>
                  <a:pt x="18406" y="5095"/>
                  <a:pt x="18458" y="5078"/>
                  <a:pt x="18510" y="5064"/>
                </a:cubicBezTo>
                <a:cubicBezTo>
                  <a:pt x="18562" y="5051"/>
                  <a:pt x="18613" y="5037"/>
                  <a:pt x="18665" y="5023"/>
                </a:cubicBezTo>
              </a:path>
              <a:path w="3041" h="646">
                <a:moveTo>
                  <a:pt x="18910" y="4825"/>
                </a:moveTo>
                <a:cubicBezTo>
                  <a:pt x="18883" y="4850"/>
                  <a:pt x="18871" y="4890"/>
                  <a:pt x="18855" y="4925"/>
                </a:cubicBezTo>
                <a:cubicBezTo>
                  <a:pt x="18826" y="4987"/>
                  <a:pt x="18795" y="5052"/>
                  <a:pt x="18773" y="5117"/>
                </a:cubicBezTo>
                <a:cubicBezTo>
                  <a:pt x="18763" y="5148"/>
                  <a:pt x="18758" y="5179"/>
                  <a:pt x="18754" y="5211"/>
                </a:cubicBezTo>
              </a:path>
              <a:path w="3041" h="646">
                <a:moveTo>
                  <a:pt x="19198" y="4824"/>
                </a:moveTo>
                <a:cubicBezTo>
                  <a:pt x="19156" y="4829"/>
                  <a:pt x="19125" y="4868"/>
                  <a:pt x="19095" y="4901"/>
                </a:cubicBezTo>
                <a:cubicBezTo>
                  <a:pt x="19049" y="4953"/>
                  <a:pt x="19001" y="5018"/>
                  <a:pt x="18985" y="5087"/>
                </a:cubicBezTo>
                <a:cubicBezTo>
                  <a:pt x="18973" y="5138"/>
                  <a:pt x="18992" y="5181"/>
                  <a:pt x="19042" y="5198"/>
                </a:cubicBezTo>
                <a:cubicBezTo>
                  <a:pt x="19088" y="5213"/>
                  <a:pt x="19141" y="5193"/>
                  <a:pt x="19178" y="5165"/>
                </a:cubicBezTo>
                <a:cubicBezTo>
                  <a:pt x="19215" y="5136"/>
                  <a:pt x="19231" y="5081"/>
                  <a:pt x="19192" y="5046"/>
                </a:cubicBezTo>
                <a:cubicBezTo>
                  <a:pt x="19178" y="5034"/>
                  <a:pt x="19156" y="5028"/>
                  <a:pt x="19139" y="5022"/>
                </a:cubicBezTo>
                <a:cubicBezTo>
                  <a:pt x="19188" y="5030"/>
                  <a:pt x="19229" y="5024"/>
                  <a:pt x="19278" y="5019"/>
                </a:cubicBezTo>
                <a:cubicBezTo>
                  <a:pt x="19342" y="5013"/>
                  <a:pt x="19403" y="5003"/>
                  <a:pt x="19465" y="4987"/>
                </a:cubicBezTo>
                <a:cubicBezTo>
                  <a:pt x="19477" y="4984"/>
                  <a:pt x="19488" y="4980"/>
                  <a:pt x="19500" y="4977"/>
                </a:cubicBezTo>
              </a:path>
              <a:path w="3041" h="646">
                <a:moveTo>
                  <a:pt x="19840" y="4860"/>
                </a:moveTo>
                <a:cubicBezTo>
                  <a:pt x="19843" y="4852"/>
                  <a:pt x="19845" y="4845"/>
                  <a:pt x="19848" y="4837"/>
                </a:cubicBezTo>
                <a:cubicBezTo>
                  <a:pt x="19813" y="4818"/>
                  <a:pt x="19787" y="4830"/>
                  <a:pt x="19748" y="4845"/>
                </a:cubicBezTo>
                <a:cubicBezTo>
                  <a:pt x="19687" y="4868"/>
                  <a:pt x="19608" y="4900"/>
                  <a:pt x="19569" y="4955"/>
                </a:cubicBezTo>
                <a:cubicBezTo>
                  <a:pt x="19566" y="4962"/>
                  <a:pt x="19563" y="4970"/>
                  <a:pt x="19560" y="4977"/>
                </a:cubicBezTo>
                <a:cubicBezTo>
                  <a:pt x="19587" y="5014"/>
                  <a:pt x="19623" y="5014"/>
                  <a:pt x="19669" y="5022"/>
                </a:cubicBezTo>
                <a:cubicBezTo>
                  <a:pt x="19700" y="5027"/>
                  <a:pt x="19779" y="5028"/>
                  <a:pt x="19792" y="5068"/>
                </a:cubicBezTo>
                <a:cubicBezTo>
                  <a:pt x="19807" y="5112"/>
                  <a:pt x="19729" y="5162"/>
                  <a:pt x="19703" y="5181"/>
                </a:cubicBezTo>
                <a:cubicBezTo>
                  <a:pt x="19653" y="5218"/>
                  <a:pt x="19595" y="5254"/>
                  <a:pt x="19540" y="5281"/>
                </a:cubicBezTo>
                <a:cubicBezTo>
                  <a:pt x="19518" y="5290"/>
                  <a:pt x="19514" y="5295"/>
                  <a:pt x="19499" y="529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F345F1-95C2-43C0-891D-342F19F5A5D3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jbrowser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658880" y="3132000"/>
            <a:ext cx="1457280" cy="684360"/>
          </a:xfrm>
          <a:custGeom>
            <a:avLst/>
            <a:gdLst/>
            <a:ahLst/>
            <a:rect l="l" t="t" r="r" b="b"/>
            <a:pathLst>
              <a:path w="4048" h="1899">
                <a:moveTo>
                  <a:pt x="4607" y="10598"/>
                </a:moveTo>
                <a:cubicBezTo>
                  <a:pt x="4615" y="10551"/>
                  <a:pt x="4638" y="10510"/>
                  <a:pt x="4657" y="10466"/>
                </a:cubicBezTo>
                <a:cubicBezTo>
                  <a:pt x="4692" y="10384"/>
                  <a:pt x="4726" y="10302"/>
                  <a:pt x="4760" y="10220"/>
                </a:cubicBezTo>
                <a:cubicBezTo>
                  <a:pt x="4803" y="10115"/>
                  <a:pt x="4842" y="10009"/>
                  <a:pt x="4893" y="9908"/>
                </a:cubicBezTo>
                <a:cubicBezTo>
                  <a:pt x="4918" y="9955"/>
                  <a:pt x="4904" y="10016"/>
                  <a:pt x="4900" y="10071"/>
                </a:cubicBezTo>
                <a:cubicBezTo>
                  <a:pt x="4892" y="10183"/>
                  <a:pt x="4873" y="10308"/>
                  <a:pt x="4894" y="10419"/>
                </a:cubicBezTo>
                <a:cubicBezTo>
                  <a:pt x="4901" y="10441"/>
                  <a:pt x="4903" y="10443"/>
                  <a:pt x="4901" y="10406"/>
                </a:cubicBezTo>
              </a:path>
              <a:path w="4048" h="1899">
                <a:moveTo>
                  <a:pt x="4739" y="10288"/>
                </a:moveTo>
                <a:cubicBezTo>
                  <a:pt x="4761" y="10252"/>
                  <a:pt x="4785" y="10236"/>
                  <a:pt x="4821" y="10214"/>
                </a:cubicBezTo>
                <a:cubicBezTo>
                  <a:pt x="4882" y="10177"/>
                  <a:pt x="4946" y="10145"/>
                  <a:pt x="5012" y="10117"/>
                </a:cubicBezTo>
                <a:cubicBezTo>
                  <a:pt x="5025" y="10112"/>
                  <a:pt x="5039" y="10106"/>
                  <a:pt x="5052" y="10101"/>
                </a:cubicBezTo>
              </a:path>
              <a:path w="4048" h="1899">
                <a:moveTo>
                  <a:pt x="5192" y="9896"/>
                </a:moveTo>
                <a:cubicBezTo>
                  <a:pt x="5190" y="9946"/>
                  <a:pt x="5178" y="9994"/>
                  <a:pt x="5170" y="10044"/>
                </a:cubicBezTo>
                <a:cubicBezTo>
                  <a:pt x="5160" y="10107"/>
                  <a:pt x="5154" y="10172"/>
                  <a:pt x="5149" y="10236"/>
                </a:cubicBezTo>
                <a:cubicBezTo>
                  <a:pt x="5148" y="10259"/>
                  <a:pt x="5147" y="10264"/>
                  <a:pt x="5150" y="10278"/>
                </a:cubicBezTo>
              </a:path>
              <a:path w="4048" h="1899">
                <a:moveTo>
                  <a:pt x="5148" y="9920"/>
                </a:moveTo>
                <a:cubicBezTo>
                  <a:pt x="5180" y="9886"/>
                  <a:pt x="5202" y="9864"/>
                  <a:pt x="5251" y="9866"/>
                </a:cubicBezTo>
                <a:cubicBezTo>
                  <a:pt x="5298" y="9868"/>
                  <a:pt x="5336" y="9890"/>
                  <a:pt x="5356" y="9934"/>
                </a:cubicBezTo>
                <a:cubicBezTo>
                  <a:pt x="5382" y="9990"/>
                  <a:pt x="5365" y="10064"/>
                  <a:pt x="5349" y="10120"/>
                </a:cubicBezTo>
                <a:cubicBezTo>
                  <a:pt x="5331" y="10185"/>
                  <a:pt x="5300" y="10248"/>
                  <a:pt x="5261" y="10303"/>
                </a:cubicBezTo>
                <a:cubicBezTo>
                  <a:pt x="5237" y="10337"/>
                  <a:pt x="5212" y="10371"/>
                  <a:pt x="5188" y="10325"/>
                </a:cubicBezTo>
              </a:path>
              <a:path w="4048" h="1899">
                <a:moveTo>
                  <a:pt x="5477" y="9834"/>
                </a:moveTo>
                <a:cubicBezTo>
                  <a:pt x="5498" y="9869"/>
                  <a:pt x="5493" y="9907"/>
                  <a:pt x="5492" y="9950"/>
                </a:cubicBezTo>
                <a:cubicBezTo>
                  <a:pt x="5490" y="10011"/>
                  <a:pt x="5486" y="10075"/>
                  <a:pt x="5504" y="10134"/>
                </a:cubicBezTo>
                <a:cubicBezTo>
                  <a:pt x="5515" y="10170"/>
                  <a:pt x="5540" y="10204"/>
                  <a:pt x="5581" y="10182"/>
                </a:cubicBezTo>
                <a:cubicBezTo>
                  <a:pt x="5657" y="10142"/>
                  <a:pt x="5696" y="10031"/>
                  <a:pt x="5722" y="9956"/>
                </a:cubicBezTo>
                <a:cubicBezTo>
                  <a:pt x="5739" y="9907"/>
                  <a:pt x="5745" y="9855"/>
                  <a:pt x="5761" y="9806"/>
                </a:cubicBezTo>
                <a:cubicBezTo>
                  <a:pt x="5764" y="9800"/>
                  <a:pt x="5766" y="9793"/>
                  <a:pt x="5769" y="9787"/>
                </a:cubicBezTo>
              </a:path>
              <a:path w="4048" h="1899">
                <a:moveTo>
                  <a:pt x="5852" y="9770"/>
                </a:moveTo>
                <a:cubicBezTo>
                  <a:pt x="5838" y="9829"/>
                  <a:pt x="5826" y="9892"/>
                  <a:pt x="5828" y="9953"/>
                </a:cubicBezTo>
                <a:cubicBezTo>
                  <a:pt x="5829" y="9993"/>
                  <a:pt x="5831" y="10019"/>
                  <a:pt x="5861" y="10040"/>
                </a:cubicBezTo>
              </a:path>
              <a:path w="4048" h="1899">
                <a:moveTo>
                  <a:pt x="6201" y="9601"/>
                </a:moveTo>
                <a:cubicBezTo>
                  <a:pt x="6167" y="9626"/>
                  <a:pt x="6135" y="9652"/>
                  <a:pt x="6108" y="9685"/>
                </a:cubicBezTo>
                <a:cubicBezTo>
                  <a:pt x="6069" y="9733"/>
                  <a:pt x="6033" y="9788"/>
                  <a:pt x="6020" y="9849"/>
                </a:cubicBezTo>
                <a:cubicBezTo>
                  <a:pt x="6011" y="9893"/>
                  <a:pt x="6027" y="9933"/>
                  <a:pt x="6077" y="9934"/>
                </a:cubicBezTo>
                <a:cubicBezTo>
                  <a:pt x="6137" y="9935"/>
                  <a:pt x="6196" y="9898"/>
                  <a:pt x="6241" y="9862"/>
                </a:cubicBezTo>
                <a:cubicBezTo>
                  <a:pt x="6254" y="9850"/>
                  <a:pt x="6267" y="9838"/>
                  <a:pt x="6280" y="9826"/>
                </a:cubicBezTo>
              </a:path>
              <a:path w="4048" h="1899">
                <a:moveTo>
                  <a:pt x="6457" y="9595"/>
                </a:moveTo>
                <a:cubicBezTo>
                  <a:pt x="6416" y="9654"/>
                  <a:pt x="6375" y="9718"/>
                  <a:pt x="6359" y="9790"/>
                </a:cubicBezTo>
                <a:cubicBezTo>
                  <a:pt x="6350" y="9829"/>
                  <a:pt x="6351" y="9880"/>
                  <a:pt x="6405" y="9873"/>
                </a:cubicBezTo>
                <a:cubicBezTo>
                  <a:pt x="6458" y="9866"/>
                  <a:pt x="6507" y="9820"/>
                  <a:pt x="6540" y="9782"/>
                </a:cubicBezTo>
                <a:cubicBezTo>
                  <a:pt x="6548" y="9771"/>
                  <a:pt x="6557" y="9759"/>
                  <a:pt x="6565" y="9748"/>
                </a:cubicBezTo>
              </a:path>
              <a:path w="4048" h="1899">
                <a:moveTo>
                  <a:pt x="6410" y="9613"/>
                </a:moveTo>
                <a:cubicBezTo>
                  <a:pt x="6402" y="9659"/>
                  <a:pt x="6417" y="9665"/>
                  <a:pt x="6468" y="9653"/>
                </a:cubicBezTo>
                <a:cubicBezTo>
                  <a:pt x="6505" y="9644"/>
                  <a:pt x="6545" y="9626"/>
                  <a:pt x="6568" y="9595"/>
                </a:cubicBezTo>
                <a:cubicBezTo>
                  <a:pt x="6571" y="9589"/>
                  <a:pt x="6574" y="9582"/>
                  <a:pt x="6577" y="9576"/>
                </a:cubicBezTo>
              </a:path>
              <a:path w="4048" h="1899">
                <a:moveTo>
                  <a:pt x="6394" y="9487"/>
                </a:moveTo>
                <a:cubicBezTo>
                  <a:pt x="6385" y="9476"/>
                  <a:pt x="6446" y="9457"/>
                  <a:pt x="6481" y="9443"/>
                </a:cubicBezTo>
                <a:cubicBezTo>
                  <a:pt x="6538" y="9420"/>
                  <a:pt x="6597" y="9403"/>
                  <a:pt x="6654" y="9381"/>
                </a:cubicBezTo>
                <a:cubicBezTo>
                  <a:pt x="6669" y="9375"/>
                  <a:pt x="6683" y="9369"/>
                  <a:pt x="6698" y="9363"/>
                </a:cubicBezTo>
              </a:path>
              <a:path w="4048" h="1899">
                <a:moveTo>
                  <a:pt x="7125" y="9349"/>
                </a:moveTo>
                <a:cubicBezTo>
                  <a:pt x="7146" y="9269"/>
                  <a:pt x="7124" y="9371"/>
                  <a:pt x="7120" y="9396"/>
                </a:cubicBezTo>
                <a:cubicBezTo>
                  <a:pt x="7110" y="9465"/>
                  <a:pt x="7080" y="9617"/>
                  <a:pt x="7135" y="9675"/>
                </a:cubicBezTo>
                <a:cubicBezTo>
                  <a:pt x="7171" y="9713"/>
                  <a:pt x="7231" y="9639"/>
                  <a:pt x="7248" y="9618"/>
                </a:cubicBezTo>
                <a:cubicBezTo>
                  <a:pt x="7333" y="9518"/>
                  <a:pt x="7405" y="9399"/>
                  <a:pt x="7467" y="9284"/>
                </a:cubicBezTo>
                <a:cubicBezTo>
                  <a:pt x="7470" y="9278"/>
                  <a:pt x="7474" y="9271"/>
                  <a:pt x="7477" y="9265"/>
                </a:cubicBezTo>
              </a:path>
              <a:path w="4048" h="1899">
                <a:moveTo>
                  <a:pt x="7577" y="9119"/>
                </a:moveTo>
                <a:cubicBezTo>
                  <a:pt x="7619" y="9121"/>
                  <a:pt x="7595" y="9157"/>
                  <a:pt x="7588" y="9196"/>
                </a:cubicBezTo>
                <a:cubicBezTo>
                  <a:pt x="7575" y="9265"/>
                  <a:pt x="7564" y="9333"/>
                  <a:pt x="7558" y="9403"/>
                </a:cubicBezTo>
                <a:cubicBezTo>
                  <a:pt x="7554" y="9451"/>
                  <a:pt x="7540" y="9495"/>
                  <a:pt x="7589" y="9471"/>
                </a:cubicBezTo>
              </a:path>
              <a:path w="4048" h="1899">
                <a:moveTo>
                  <a:pt x="7791" y="9096"/>
                </a:moveTo>
                <a:cubicBezTo>
                  <a:pt x="7794" y="9137"/>
                  <a:pt x="7785" y="9172"/>
                  <a:pt x="7776" y="9213"/>
                </a:cubicBezTo>
                <a:cubicBezTo>
                  <a:pt x="7765" y="9264"/>
                  <a:pt x="7754" y="9318"/>
                  <a:pt x="7766" y="9370"/>
                </a:cubicBezTo>
                <a:cubicBezTo>
                  <a:pt x="7776" y="9414"/>
                  <a:pt x="7810" y="9426"/>
                  <a:pt x="7851" y="9411"/>
                </a:cubicBezTo>
                <a:cubicBezTo>
                  <a:pt x="7897" y="9394"/>
                  <a:pt x="7938" y="9356"/>
                  <a:pt x="7965" y="9316"/>
                </a:cubicBezTo>
                <a:cubicBezTo>
                  <a:pt x="7982" y="9287"/>
                  <a:pt x="7987" y="9278"/>
                  <a:pt x="7990" y="9255"/>
                </a:cubicBezTo>
              </a:path>
              <a:path w="4048" h="1899">
                <a:moveTo>
                  <a:pt x="7854" y="9191"/>
                </a:moveTo>
                <a:cubicBezTo>
                  <a:pt x="7878" y="9217"/>
                  <a:pt x="7898" y="9221"/>
                  <a:pt x="7936" y="9205"/>
                </a:cubicBezTo>
                <a:cubicBezTo>
                  <a:pt x="7959" y="9196"/>
                  <a:pt x="7968" y="9183"/>
                  <a:pt x="7982" y="9165"/>
                </a:cubicBezTo>
              </a:path>
              <a:path w="4048" h="1899">
                <a:moveTo>
                  <a:pt x="7827" y="8987"/>
                </a:moveTo>
                <a:cubicBezTo>
                  <a:pt x="7851" y="8975"/>
                  <a:pt x="7875" y="8970"/>
                  <a:pt x="7901" y="8963"/>
                </a:cubicBezTo>
                <a:cubicBezTo>
                  <a:pt x="7936" y="8953"/>
                  <a:pt x="7972" y="8947"/>
                  <a:pt x="8007" y="8937"/>
                </a:cubicBezTo>
                <a:cubicBezTo>
                  <a:pt x="8015" y="8935"/>
                  <a:pt x="8023" y="8932"/>
                  <a:pt x="8031" y="8930"/>
                </a:cubicBezTo>
              </a:path>
              <a:path w="4048" h="1899">
                <a:moveTo>
                  <a:pt x="8206" y="8815"/>
                </a:moveTo>
                <a:cubicBezTo>
                  <a:pt x="8198" y="8847"/>
                  <a:pt x="8205" y="8881"/>
                  <a:pt x="8202" y="8916"/>
                </a:cubicBezTo>
                <a:cubicBezTo>
                  <a:pt x="8198" y="8967"/>
                  <a:pt x="8191" y="9017"/>
                  <a:pt x="8190" y="9068"/>
                </a:cubicBezTo>
                <a:cubicBezTo>
                  <a:pt x="8189" y="9108"/>
                  <a:pt x="8188" y="9108"/>
                  <a:pt x="8214" y="9132"/>
                </a:cubicBezTo>
                <a:cubicBezTo>
                  <a:pt x="8255" y="9098"/>
                  <a:pt x="8280" y="9055"/>
                  <a:pt x="8306" y="9008"/>
                </a:cubicBezTo>
                <a:cubicBezTo>
                  <a:pt x="8320" y="8983"/>
                  <a:pt x="8333" y="8958"/>
                  <a:pt x="8348" y="8933"/>
                </a:cubicBezTo>
                <a:cubicBezTo>
                  <a:pt x="8361" y="8965"/>
                  <a:pt x="8353" y="8999"/>
                  <a:pt x="8360" y="9035"/>
                </a:cubicBezTo>
                <a:cubicBezTo>
                  <a:pt x="8368" y="9074"/>
                  <a:pt x="8388" y="9113"/>
                  <a:pt x="8433" y="9112"/>
                </a:cubicBezTo>
                <a:cubicBezTo>
                  <a:pt x="8491" y="9111"/>
                  <a:pt x="8536" y="9051"/>
                  <a:pt x="8564" y="9008"/>
                </a:cubicBezTo>
                <a:cubicBezTo>
                  <a:pt x="8604" y="8947"/>
                  <a:pt x="8627" y="8876"/>
                  <a:pt x="8645" y="8805"/>
                </a:cubicBezTo>
                <a:cubicBezTo>
                  <a:pt x="8654" y="8769"/>
                  <a:pt x="8654" y="8736"/>
                  <a:pt x="8652" y="870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4336920"/>
            <a:ext cx="984240" cy="422280"/>
          </a:xfrm>
          <a:custGeom>
            <a:avLst/>
            <a:gdLst/>
            <a:ahLst/>
            <a:rect l="l" t="t" r="r" b="b"/>
            <a:pathLst>
              <a:path w="2733" h="1174">
                <a:moveTo>
                  <a:pt x="4448" y="13220"/>
                </a:moveTo>
                <a:cubicBezTo>
                  <a:pt x="4447" y="13193"/>
                  <a:pt x="4452" y="13168"/>
                  <a:pt x="4459" y="13141"/>
                </a:cubicBezTo>
                <a:cubicBezTo>
                  <a:pt x="4488" y="13026"/>
                  <a:pt x="4536" y="12915"/>
                  <a:pt x="4586" y="12807"/>
                </a:cubicBezTo>
                <a:cubicBezTo>
                  <a:pt x="4613" y="12747"/>
                  <a:pt x="4642" y="12691"/>
                  <a:pt x="4679" y="12637"/>
                </a:cubicBezTo>
                <a:cubicBezTo>
                  <a:pt x="4699" y="12682"/>
                  <a:pt x="4686" y="12731"/>
                  <a:pt x="4682" y="12783"/>
                </a:cubicBezTo>
                <a:cubicBezTo>
                  <a:pt x="4677" y="12849"/>
                  <a:pt x="4679" y="12913"/>
                  <a:pt x="4685" y="12978"/>
                </a:cubicBezTo>
                <a:cubicBezTo>
                  <a:pt x="4688" y="13004"/>
                  <a:pt x="4687" y="13010"/>
                  <a:pt x="4693" y="13025"/>
                </a:cubicBezTo>
              </a:path>
              <a:path w="2733" h="1174">
                <a:moveTo>
                  <a:pt x="4501" y="12925"/>
                </a:moveTo>
                <a:cubicBezTo>
                  <a:pt x="4532" y="12923"/>
                  <a:pt x="4563" y="12917"/>
                  <a:pt x="4592" y="12905"/>
                </a:cubicBezTo>
                <a:cubicBezTo>
                  <a:pt x="4680" y="12870"/>
                  <a:pt x="4750" y="12812"/>
                  <a:pt x="4818" y="12748"/>
                </a:cubicBezTo>
              </a:path>
              <a:path w="2733" h="1174">
                <a:moveTo>
                  <a:pt x="4904" y="12613"/>
                </a:moveTo>
                <a:cubicBezTo>
                  <a:pt x="4907" y="12660"/>
                  <a:pt x="4900" y="12705"/>
                  <a:pt x="4896" y="12752"/>
                </a:cubicBezTo>
                <a:cubicBezTo>
                  <a:pt x="4891" y="12813"/>
                  <a:pt x="4892" y="12874"/>
                  <a:pt x="4897" y="12935"/>
                </a:cubicBezTo>
                <a:cubicBezTo>
                  <a:pt x="4901" y="12960"/>
                  <a:pt x="4900" y="12969"/>
                  <a:pt x="4923" y="12961"/>
                </a:cubicBezTo>
              </a:path>
              <a:path w="2733" h="1174">
                <a:moveTo>
                  <a:pt x="4851" y="12626"/>
                </a:moveTo>
                <a:cubicBezTo>
                  <a:pt x="4875" y="12613"/>
                  <a:pt x="4900" y="12598"/>
                  <a:pt x="4926" y="12588"/>
                </a:cubicBezTo>
                <a:cubicBezTo>
                  <a:pt x="5002" y="12557"/>
                  <a:pt x="5078" y="12527"/>
                  <a:pt x="5153" y="12493"/>
                </a:cubicBezTo>
                <a:cubicBezTo>
                  <a:pt x="5186" y="12478"/>
                  <a:pt x="5218" y="12462"/>
                  <a:pt x="5250" y="12445"/>
                </a:cubicBezTo>
              </a:path>
              <a:path w="2733" h="1174">
                <a:moveTo>
                  <a:pt x="4934" y="12746"/>
                </a:moveTo>
                <a:cubicBezTo>
                  <a:pt x="4952" y="12788"/>
                  <a:pt x="4985" y="12759"/>
                  <a:pt x="5023" y="12735"/>
                </a:cubicBezTo>
                <a:cubicBezTo>
                  <a:pt x="5077" y="12701"/>
                  <a:pt x="5132" y="12663"/>
                  <a:pt x="5181" y="12621"/>
                </a:cubicBezTo>
                <a:cubicBezTo>
                  <a:pt x="5210" y="12593"/>
                  <a:pt x="5219" y="12585"/>
                  <a:pt x="5238" y="12567"/>
                </a:cubicBezTo>
              </a:path>
              <a:path w="2733" h="1174">
                <a:moveTo>
                  <a:pt x="5256" y="12513"/>
                </a:moveTo>
                <a:cubicBezTo>
                  <a:pt x="5267" y="12560"/>
                  <a:pt x="5263" y="12598"/>
                  <a:pt x="5257" y="12647"/>
                </a:cubicBezTo>
                <a:cubicBezTo>
                  <a:pt x="5250" y="12707"/>
                  <a:pt x="5248" y="12764"/>
                  <a:pt x="5251" y="12824"/>
                </a:cubicBezTo>
                <a:cubicBezTo>
                  <a:pt x="5253" y="12849"/>
                  <a:pt x="5252" y="12854"/>
                  <a:pt x="5259" y="12868"/>
                </a:cubicBezTo>
              </a:path>
              <a:path w="2733" h="1174">
                <a:moveTo>
                  <a:pt x="5221" y="12521"/>
                </a:moveTo>
                <a:cubicBezTo>
                  <a:pt x="5249" y="12492"/>
                  <a:pt x="5286" y="12475"/>
                  <a:pt x="5323" y="12455"/>
                </a:cubicBezTo>
                <a:cubicBezTo>
                  <a:pt x="5369" y="12430"/>
                  <a:pt x="5416" y="12406"/>
                  <a:pt x="5463" y="12382"/>
                </a:cubicBezTo>
                <a:cubicBezTo>
                  <a:pt x="5488" y="12369"/>
                  <a:pt x="5495" y="12366"/>
                  <a:pt x="5509" y="12355"/>
                </a:cubicBezTo>
              </a:path>
              <a:path w="2733" h="1174">
                <a:moveTo>
                  <a:pt x="5264" y="12567"/>
                </a:moveTo>
                <a:cubicBezTo>
                  <a:pt x="5265" y="12573"/>
                  <a:pt x="5265" y="12580"/>
                  <a:pt x="5266" y="12586"/>
                </a:cubicBezTo>
                <a:cubicBezTo>
                  <a:pt x="5303" y="12580"/>
                  <a:pt x="5330" y="12562"/>
                  <a:pt x="5364" y="12547"/>
                </a:cubicBezTo>
                <a:cubicBezTo>
                  <a:pt x="5409" y="12527"/>
                  <a:pt x="5456" y="12510"/>
                  <a:pt x="5498" y="12485"/>
                </a:cubicBezTo>
                <a:cubicBezTo>
                  <a:pt x="5506" y="12479"/>
                  <a:pt x="5514" y="12474"/>
                  <a:pt x="5522" y="12468"/>
                </a:cubicBezTo>
              </a:path>
              <a:path w="2733" h="1174">
                <a:moveTo>
                  <a:pt x="5573" y="12477"/>
                </a:moveTo>
                <a:cubicBezTo>
                  <a:pt x="5562" y="12514"/>
                  <a:pt x="5543" y="12560"/>
                  <a:pt x="5544" y="12599"/>
                </a:cubicBezTo>
                <a:cubicBezTo>
                  <a:pt x="5545" y="12636"/>
                  <a:pt x="5564" y="12679"/>
                  <a:pt x="5605" y="12685"/>
                </a:cubicBezTo>
                <a:cubicBezTo>
                  <a:pt x="5649" y="12691"/>
                  <a:pt x="5692" y="12663"/>
                  <a:pt x="5719" y="12631"/>
                </a:cubicBezTo>
                <a:cubicBezTo>
                  <a:pt x="5726" y="12621"/>
                  <a:pt x="5733" y="12610"/>
                  <a:pt x="5740" y="12600"/>
                </a:cubicBezTo>
              </a:path>
              <a:path w="2733" h="1174">
                <a:moveTo>
                  <a:pt x="5661" y="12505"/>
                </a:moveTo>
                <a:cubicBezTo>
                  <a:pt x="5662" y="12511"/>
                  <a:pt x="5662" y="12518"/>
                  <a:pt x="5663" y="12524"/>
                </a:cubicBezTo>
                <a:cubicBezTo>
                  <a:pt x="5695" y="12518"/>
                  <a:pt x="5723" y="12506"/>
                  <a:pt x="5747" y="12480"/>
                </a:cubicBezTo>
                <a:cubicBezTo>
                  <a:pt x="5758" y="12466"/>
                  <a:pt x="5761" y="12461"/>
                  <a:pt x="5761" y="12449"/>
                </a:cubicBezTo>
              </a:path>
              <a:path w="2733" h="1174">
                <a:moveTo>
                  <a:pt x="5553" y="12349"/>
                </a:moveTo>
                <a:cubicBezTo>
                  <a:pt x="5600" y="12348"/>
                  <a:pt x="5643" y="12334"/>
                  <a:pt x="5689" y="12323"/>
                </a:cubicBezTo>
                <a:cubicBezTo>
                  <a:pt x="5749" y="12308"/>
                  <a:pt x="5809" y="12292"/>
                  <a:pt x="5868" y="12274"/>
                </a:cubicBezTo>
              </a:path>
              <a:path w="2733" h="1174">
                <a:moveTo>
                  <a:pt x="6127" y="12327"/>
                </a:moveTo>
                <a:cubicBezTo>
                  <a:pt x="6080" y="12315"/>
                  <a:pt x="6054" y="12319"/>
                  <a:pt x="6014" y="12355"/>
                </a:cubicBezTo>
                <a:cubicBezTo>
                  <a:pt x="5975" y="12390"/>
                  <a:pt x="5944" y="12442"/>
                  <a:pt x="5932" y="12493"/>
                </a:cubicBezTo>
                <a:cubicBezTo>
                  <a:pt x="5923" y="12531"/>
                  <a:pt x="5926" y="12580"/>
                  <a:pt x="5969" y="12596"/>
                </a:cubicBezTo>
                <a:cubicBezTo>
                  <a:pt x="6015" y="12613"/>
                  <a:pt x="6073" y="12576"/>
                  <a:pt x="6107" y="12549"/>
                </a:cubicBezTo>
                <a:cubicBezTo>
                  <a:pt x="6119" y="12537"/>
                  <a:pt x="6131" y="12526"/>
                  <a:pt x="6143" y="12514"/>
                </a:cubicBezTo>
              </a:path>
              <a:path w="2733" h="1174">
                <a:moveTo>
                  <a:pt x="6288" y="12287"/>
                </a:moveTo>
                <a:cubicBezTo>
                  <a:pt x="6294" y="12283"/>
                  <a:pt x="6301" y="12280"/>
                  <a:pt x="6307" y="12276"/>
                </a:cubicBezTo>
                <a:cubicBezTo>
                  <a:pt x="6317" y="12316"/>
                  <a:pt x="6313" y="12349"/>
                  <a:pt x="6309" y="12391"/>
                </a:cubicBezTo>
                <a:cubicBezTo>
                  <a:pt x="6305" y="12438"/>
                  <a:pt x="6292" y="12579"/>
                  <a:pt x="6299" y="12532"/>
                </a:cubicBezTo>
                <a:cubicBezTo>
                  <a:pt x="6300" y="12525"/>
                  <a:pt x="6300" y="12518"/>
                  <a:pt x="6301" y="12511"/>
                </a:cubicBezTo>
              </a:path>
              <a:path w="2733" h="1174">
                <a:moveTo>
                  <a:pt x="6196" y="12280"/>
                </a:moveTo>
                <a:cubicBezTo>
                  <a:pt x="6226" y="12266"/>
                  <a:pt x="6260" y="12258"/>
                  <a:pt x="6294" y="12244"/>
                </a:cubicBezTo>
                <a:cubicBezTo>
                  <a:pt x="6351" y="12221"/>
                  <a:pt x="6409" y="12204"/>
                  <a:pt x="6468" y="12186"/>
                </a:cubicBezTo>
                <a:cubicBezTo>
                  <a:pt x="6501" y="12176"/>
                  <a:pt x="6510" y="12173"/>
                  <a:pt x="6532" y="12168"/>
                </a:cubicBezTo>
              </a:path>
              <a:path w="2733" h="1174">
                <a:moveTo>
                  <a:pt x="6541" y="12242"/>
                </a:moveTo>
                <a:cubicBezTo>
                  <a:pt x="6534" y="12282"/>
                  <a:pt x="6526" y="12321"/>
                  <a:pt x="6521" y="12361"/>
                </a:cubicBezTo>
                <a:cubicBezTo>
                  <a:pt x="6516" y="12399"/>
                  <a:pt x="6507" y="12462"/>
                  <a:pt x="6539" y="12493"/>
                </a:cubicBezTo>
                <a:cubicBezTo>
                  <a:pt x="6569" y="12521"/>
                  <a:pt x="6617" y="12493"/>
                  <a:pt x="6640" y="12473"/>
                </a:cubicBezTo>
                <a:cubicBezTo>
                  <a:pt x="6665" y="12448"/>
                  <a:pt x="6674" y="12439"/>
                  <a:pt x="6685" y="12418"/>
                </a:cubicBezTo>
              </a:path>
              <a:path w="2733" h="1174">
                <a:moveTo>
                  <a:pt x="6625" y="12261"/>
                </a:moveTo>
                <a:cubicBezTo>
                  <a:pt x="6604" y="12282"/>
                  <a:pt x="6597" y="12287"/>
                  <a:pt x="6593" y="12306"/>
                </a:cubicBezTo>
                <a:cubicBezTo>
                  <a:pt x="6629" y="12307"/>
                  <a:pt x="6658" y="12295"/>
                  <a:pt x="6691" y="12276"/>
                </a:cubicBezTo>
                <a:cubicBezTo>
                  <a:pt x="6714" y="12262"/>
                  <a:pt x="6723" y="12252"/>
                  <a:pt x="6736" y="12229"/>
                </a:cubicBezTo>
              </a:path>
              <a:path w="2733" h="1174">
                <a:moveTo>
                  <a:pt x="6610" y="12130"/>
                </a:moveTo>
                <a:cubicBezTo>
                  <a:pt x="6593" y="12160"/>
                  <a:pt x="6645" y="12145"/>
                  <a:pt x="6677" y="12142"/>
                </a:cubicBezTo>
                <a:cubicBezTo>
                  <a:pt x="6725" y="12138"/>
                  <a:pt x="6772" y="12134"/>
                  <a:pt x="6820" y="12128"/>
                </a:cubicBezTo>
                <a:cubicBezTo>
                  <a:pt x="6830" y="12127"/>
                  <a:pt x="6841" y="12125"/>
                  <a:pt x="6851" y="12124"/>
                </a:cubicBezTo>
              </a:path>
              <a:path w="2733" h="1174">
                <a:moveTo>
                  <a:pt x="6984" y="12124"/>
                </a:moveTo>
                <a:cubicBezTo>
                  <a:pt x="6983" y="12164"/>
                  <a:pt x="6980" y="12204"/>
                  <a:pt x="6974" y="12244"/>
                </a:cubicBezTo>
                <a:cubicBezTo>
                  <a:pt x="6968" y="12286"/>
                  <a:pt x="6960" y="12329"/>
                  <a:pt x="6951" y="12371"/>
                </a:cubicBezTo>
              </a:path>
              <a:path w="2733" h="1174">
                <a:moveTo>
                  <a:pt x="6901" y="12074"/>
                </a:moveTo>
                <a:cubicBezTo>
                  <a:pt x="6940" y="12051"/>
                  <a:pt x="6977" y="12042"/>
                  <a:pt x="7024" y="12047"/>
                </a:cubicBezTo>
                <a:cubicBezTo>
                  <a:pt x="7076" y="12052"/>
                  <a:pt x="7131" y="12078"/>
                  <a:pt x="7158" y="12124"/>
                </a:cubicBezTo>
                <a:cubicBezTo>
                  <a:pt x="7194" y="12186"/>
                  <a:pt x="7177" y="12263"/>
                  <a:pt x="7151" y="12324"/>
                </a:cubicBezTo>
                <a:cubicBezTo>
                  <a:pt x="7121" y="12395"/>
                  <a:pt x="7063" y="12465"/>
                  <a:pt x="6996" y="12505"/>
                </a:cubicBezTo>
                <a:cubicBezTo>
                  <a:pt x="6940" y="12538"/>
                  <a:pt x="6882" y="12538"/>
                  <a:pt x="6820" y="1253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876320" y="4456080"/>
            <a:ext cx="1200240" cy="461880"/>
          </a:xfrm>
          <a:custGeom>
            <a:avLst/>
            <a:gdLst/>
            <a:ahLst/>
            <a:rect l="l" t="t" r="r" b="b"/>
            <a:pathLst>
              <a:path w="3332" h="1284">
                <a:moveTo>
                  <a:pt x="5214" y="13370"/>
                </a:moveTo>
                <a:cubicBezTo>
                  <a:pt x="5259" y="13351"/>
                  <a:pt x="5302" y="13333"/>
                  <a:pt x="5345" y="13309"/>
                </a:cubicBezTo>
                <a:cubicBezTo>
                  <a:pt x="5434" y="13259"/>
                  <a:pt x="5518" y="13204"/>
                  <a:pt x="5605" y="13151"/>
                </a:cubicBezTo>
                <a:cubicBezTo>
                  <a:pt x="5636" y="13133"/>
                  <a:pt x="5644" y="13128"/>
                  <a:pt x="5663" y="13117"/>
                </a:cubicBezTo>
                <a:cubicBezTo>
                  <a:pt x="5618" y="13161"/>
                  <a:pt x="5568" y="13201"/>
                  <a:pt x="5526" y="13248"/>
                </a:cubicBezTo>
                <a:cubicBezTo>
                  <a:pt x="5480" y="13300"/>
                  <a:pt x="5422" y="13370"/>
                  <a:pt x="5432" y="13445"/>
                </a:cubicBezTo>
                <a:cubicBezTo>
                  <a:pt x="5437" y="13481"/>
                  <a:pt x="5465" y="13504"/>
                  <a:pt x="5478" y="13535"/>
                </a:cubicBezTo>
                <a:cubicBezTo>
                  <a:pt x="5495" y="13574"/>
                  <a:pt x="5462" y="13609"/>
                  <a:pt x="5432" y="13630"/>
                </a:cubicBezTo>
                <a:cubicBezTo>
                  <a:pt x="5403" y="13650"/>
                  <a:pt x="5361" y="13670"/>
                  <a:pt x="5325" y="13657"/>
                </a:cubicBezTo>
                <a:cubicBezTo>
                  <a:pt x="5308" y="13645"/>
                  <a:pt x="5302" y="13640"/>
                  <a:pt x="5297" y="13626"/>
                </a:cubicBezTo>
              </a:path>
              <a:path w="3332" h="1284">
                <a:moveTo>
                  <a:pt x="5822" y="13259"/>
                </a:moveTo>
                <a:cubicBezTo>
                  <a:pt x="5777" y="13254"/>
                  <a:pt x="5767" y="13298"/>
                  <a:pt x="5754" y="13346"/>
                </a:cubicBezTo>
                <a:cubicBezTo>
                  <a:pt x="5741" y="13393"/>
                  <a:pt x="5732" y="13456"/>
                  <a:pt x="5751" y="13503"/>
                </a:cubicBezTo>
                <a:cubicBezTo>
                  <a:pt x="5768" y="13546"/>
                  <a:pt x="5806" y="13540"/>
                  <a:pt x="5836" y="13514"/>
                </a:cubicBezTo>
                <a:cubicBezTo>
                  <a:pt x="5879" y="13476"/>
                  <a:pt x="5903" y="13412"/>
                  <a:pt x="5914" y="13357"/>
                </a:cubicBezTo>
                <a:cubicBezTo>
                  <a:pt x="5921" y="13321"/>
                  <a:pt x="5929" y="13248"/>
                  <a:pt x="5898" y="13218"/>
                </a:cubicBezTo>
                <a:cubicBezTo>
                  <a:pt x="5888" y="13213"/>
                  <a:pt x="5879" y="13207"/>
                  <a:pt x="5869" y="13202"/>
                </a:cubicBezTo>
                <a:cubicBezTo>
                  <a:pt x="5841" y="13224"/>
                  <a:pt x="5825" y="13236"/>
                  <a:pt x="5836" y="13275"/>
                </a:cubicBezTo>
                <a:cubicBezTo>
                  <a:pt x="5838" y="13280"/>
                  <a:pt x="5841" y="13286"/>
                  <a:pt x="5843" y="13291"/>
                </a:cubicBezTo>
              </a:path>
              <a:path w="3332" h="1284">
                <a:moveTo>
                  <a:pt x="6122" y="13101"/>
                </a:moveTo>
                <a:cubicBezTo>
                  <a:pt x="6126" y="13095"/>
                  <a:pt x="6131" y="13090"/>
                  <a:pt x="6135" y="13084"/>
                </a:cubicBezTo>
                <a:cubicBezTo>
                  <a:pt x="6127" y="13125"/>
                  <a:pt x="6112" y="13165"/>
                  <a:pt x="6102" y="13206"/>
                </a:cubicBezTo>
                <a:cubicBezTo>
                  <a:pt x="6089" y="13259"/>
                  <a:pt x="6077" y="13311"/>
                  <a:pt x="6073" y="13366"/>
                </a:cubicBezTo>
                <a:cubicBezTo>
                  <a:pt x="6070" y="13411"/>
                  <a:pt x="6072" y="13405"/>
                  <a:pt x="6104" y="13388"/>
                </a:cubicBezTo>
              </a:path>
              <a:path w="3332" h="1284">
                <a:moveTo>
                  <a:pt x="6275" y="13053"/>
                </a:moveTo>
                <a:cubicBezTo>
                  <a:pt x="6298" y="13086"/>
                  <a:pt x="6285" y="13115"/>
                  <a:pt x="6278" y="13159"/>
                </a:cubicBezTo>
                <a:cubicBezTo>
                  <a:pt x="6270" y="13206"/>
                  <a:pt x="6263" y="13254"/>
                  <a:pt x="6252" y="13300"/>
                </a:cubicBezTo>
                <a:cubicBezTo>
                  <a:pt x="6250" y="13306"/>
                  <a:pt x="6248" y="13313"/>
                  <a:pt x="6246" y="13319"/>
                </a:cubicBezTo>
                <a:cubicBezTo>
                  <a:pt x="6278" y="13286"/>
                  <a:pt x="6290" y="13248"/>
                  <a:pt x="6310" y="13205"/>
                </a:cubicBezTo>
                <a:cubicBezTo>
                  <a:pt x="6329" y="13164"/>
                  <a:pt x="6346" y="13130"/>
                  <a:pt x="6379" y="13101"/>
                </a:cubicBezTo>
                <a:cubicBezTo>
                  <a:pt x="6390" y="13133"/>
                  <a:pt x="6391" y="13170"/>
                  <a:pt x="6406" y="13200"/>
                </a:cubicBezTo>
                <a:cubicBezTo>
                  <a:pt x="6422" y="13234"/>
                  <a:pt x="6450" y="13227"/>
                  <a:pt x="6476" y="13209"/>
                </a:cubicBezTo>
                <a:cubicBezTo>
                  <a:pt x="6522" y="13178"/>
                  <a:pt x="6559" y="13128"/>
                  <a:pt x="6589" y="13082"/>
                </a:cubicBezTo>
                <a:cubicBezTo>
                  <a:pt x="6613" y="13044"/>
                  <a:pt x="6632" y="13003"/>
                  <a:pt x="6648" y="12961"/>
                </a:cubicBezTo>
              </a:path>
              <a:path w="3332" h="1284">
                <a:moveTo>
                  <a:pt x="6814" y="12937"/>
                </a:moveTo>
                <a:cubicBezTo>
                  <a:pt x="6822" y="12933"/>
                  <a:pt x="6829" y="12930"/>
                  <a:pt x="6837" y="12926"/>
                </a:cubicBezTo>
                <a:cubicBezTo>
                  <a:pt x="6853" y="12966"/>
                  <a:pt x="6847" y="12996"/>
                  <a:pt x="6839" y="13040"/>
                </a:cubicBezTo>
                <a:cubicBezTo>
                  <a:pt x="6832" y="13078"/>
                  <a:pt x="6825" y="13111"/>
                  <a:pt x="6806" y="13145"/>
                </a:cubicBezTo>
              </a:path>
              <a:path w="3332" h="1284">
                <a:moveTo>
                  <a:pt x="6778" y="12847"/>
                </a:moveTo>
                <a:cubicBezTo>
                  <a:pt x="6782" y="12807"/>
                  <a:pt x="6794" y="12786"/>
                  <a:pt x="6831" y="12763"/>
                </a:cubicBezTo>
                <a:cubicBezTo>
                  <a:pt x="6868" y="12740"/>
                  <a:pt x="6923" y="12736"/>
                  <a:pt x="6965" y="12743"/>
                </a:cubicBezTo>
                <a:cubicBezTo>
                  <a:pt x="7000" y="12749"/>
                  <a:pt x="7053" y="12769"/>
                  <a:pt x="7056" y="12812"/>
                </a:cubicBezTo>
                <a:cubicBezTo>
                  <a:pt x="7060" y="12858"/>
                  <a:pt x="7011" y="12902"/>
                  <a:pt x="6980" y="12928"/>
                </a:cubicBezTo>
                <a:cubicBezTo>
                  <a:pt x="6966" y="12940"/>
                  <a:pt x="6900" y="12990"/>
                  <a:pt x="6878" y="12980"/>
                </a:cubicBezTo>
                <a:cubicBezTo>
                  <a:pt x="6876" y="12975"/>
                  <a:pt x="6874" y="12970"/>
                  <a:pt x="6872" y="12965"/>
                </a:cubicBezTo>
              </a:path>
              <a:path w="3332" h="1284">
                <a:moveTo>
                  <a:pt x="7213" y="12771"/>
                </a:moveTo>
                <a:cubicBezTo>
                  <a:pt x="7183" y="12812"/>
                  <a:pt x="7157" y="12855"/>
                  <a:pt x="7147" y="12907"/>
                </a:cubicBezTo>
                <a:cubicBezTo>
                  <a:pt x="7141" y="12937"/>
                  <a:pt x="7132" y="13001"/>
                  <a:pt x="7170" y="13015"/>
                </a:cubicBezTo>
                <a:cubicBezTo>
                  <a:pt x="7215" y="13032"/>
                  <a:pt x="7269" y="12977"/>
                  <a:pt x="7294" y="12948"/>
                </a:cubicBezTo>
                <a:cubicBezTo>
                  <a:pt x="7337" y="12899"/>
                  <a:pt x="7368" y="12840"/>
                  <a:pt x="7369" y="12774"/>
                </a:cubicBezTo>
                <a:cubicBezTo>
                  <a:pt x="7369" y="12733"/>
                  <a:pt x="7351" y="12696"/>
                  <a:pt x="7316" y="12675"/>
                </a:cubicBezTo>
                <a:cubicBezTo>
                  <a:pt x="7292" y="12661"/>
                  <a:pt x="7287" y="12670"/>
                  <a:pt x="7272" y="12686"/>
                </a:cubicBezTo>
              </a:path>
              <a:path w="3332" h="1284">
                <a:moveTo>
                  <a:pt x="7663" y="12602"/>
                </a:moveTo>
                <a:cubicBezTo>
                  <a:pt x="7651" y="12651"/>
                  <a:pt x="7634" y="12698"/>
                  <a:pt x="7622" y="12746"/>
                </a:cubicBezTo>
                <a:cubicBezTo>
                  <a:pt x="7619" y="12757"/>
                  <a:pt x="7584" y="12896"/>
                  <a:pt x="7595" y="12901"/>
                </a:cubicBezTo>
                <a:cubicBezTo>
                  <a:pt x="7600" y="12898"/>
                  <a:pt x="7604" y="12894"/>
                  <a:pt x="7609" y="12891"/>
                </a:cubicBezTo>
              </a:path>
              <a:path w="3332" h="1284">
                <a:moveTo>
                  <a:pt x="7821" y="12531"/>
                </a:moveTo>
                <a:cubicBezTo>
                  <a:pt x="7829" y="12569"/>
                  <a:pt x="7813" y="12600"/>
                  <a:pt x="7803" y="12638"/>
                </a:cubicBezTo>
                <a:cubicBezTo>
                  <a:pt x="7791" y="12682"/>
                  <a:pt x="7776" y="12727"/>
                  <a:pt x="7771" y="12772"/>
                </a:cubicBezTo>
                <a:cubicBezTo>
                  <a:pt x="7771" y="12777"/>
                  <a:pt x="7771" y="12782"/>
                  <a:pt x="7771" y="12787"/>
                </a:cubicBezTo>
                <a:cubicBezTo>
                  <a:pt x="7807" y="12747"/>
                  <a:pt x="7835" y="12705"/>
                  <a:pt x="7865" y="12660"/>
                </a:cubicBezTo>
                <a:cubicBezTo>
                  <a:pt x="7893" y="12618"/>
                  <a:pt x="7922" y="12566"/>
                  <a:pt x="7962" y="12534"/>
                </a:cubicBezTo>
                <a:cubicBezTo>
                  <a:pt x="7968" y="12531"/>
                  <a:pt x="7973" y="12528"/>
                  <a:pt x="7979" y="12525"/>
                </a:cubicBezTo>
                <a:cubicBezTo>
                  <a:pt x="7995" y="12567"/>
                  <a:pt x="7986" y="12605"/>
                  <a:pt x="7982" y="12651"/>
                </a:cubicBezTo>
                <a:cubicBezTo>
                  <a:pt x="7980" y="12677"/>
                  <a:pt x="7969" y="12747"/>
                  <a:pt x="8001" y="12763"/>
                </a:cubicBezTo>
                <a:cubicBezTo>
                  <a:pt x="8007" y="12763"/>
                  <a:pt x="8013" y="12763"/>
                  <a:pt x="8019" y="12763"/>
                </a:cubicBezTo>
                <a:cubicBezTo>
                  <a:pt x="8075" y="12722"/>
                  <a:pt x="8110" y="12673"/>
                  <a:pt x="8148" y="12615"/>
                </a:cubicBezTo>
                <a:cubicBezTo>
                  <a:pt x="8171" y="12580"/>
                  <a:pt x="8179" y="12569"/>
                  <a:pt x="8192" y="12545"/>
                </a:cubicBezTo>
              </a:path>
              <a:path w="3332" h="1284">
                <a:moveTo>
                  <a:pt x="8258" y="12450"/>
                </a:moveTo>
                <a:cubicBezTo>
                  <a:pt x="8272" y="12434"/>
                  <a:pt x="8274" y="12427"/>
                  <a:pt x="8288" y="12439"/>
                </a:cubicBezTo>
                <a:cubicBezTo>
                  <a:pt x="8293" y="12473"/>
                  <a:pt x="8290" y="12507"/>
                  <a:pt x="8290" y="12541"/>
                </a:cubicBezTo>
                <a:cubicBezTo>
                  <a:pt x="8290" y="12588"/>
                  <a:pt x="8292" y="12634"/>
                  <a:pt x="8300" y="12680"/>
                </a:cubicBezTo>
                <a:cubicBezTo>
                  <a:pt x="8304" y="12701"/>
                  <a:pt x="8307" y="12706"/>
                  <a:pt x="8323" y="12682"/>
                </a:cubicBezTo>
              </a:path>
              <a:path w="3332" h="1284">
                <a:moveTo>
                  <a:pt x="8190" y="12435"/>
                </a:moveTo>
                <a:cubicBezTo>
                  <a:pt x="8238" y="12419"/>
                  <a:pt x="8286" y="12412"/>
                  <a:pt x="8336" y="12403"/>
                </a:cubicBezTo>
                <a:cubicBezTo>
                  <a:pt x="8395" y="12392"/>
                  <a:pt x="8453" y="12386"/>
                  <a:pt x="8513" y="12381"/>
                </a:cubicBezTo>
                <a:cubicBezTo>
                  <a:pt x="8524" y="12380"/>
                  <a:pt x="8534" y="12379"/>
                  <a:pt x="8545" y="1237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355840" y="4703760"/>
            <a:ext cx="685800" cy="388800"/>
          </a:xfrm>
          <a:custGeom>
            <a:avLst/>
            <a:gdLst/>
            <a:ahLst/>
            <a:rect l="l" t="t" r="r" b="b"/>
            <a:pathLst>
              <a:path w="1906" h="1078">
                <a:moveTo>
                  <a:pt x="6543" y="13814"/>
                </a:moveTo>
                <a:cubicBezTo>
                  <a:pt x="6570" y="13821"/>
                  <a:pt x="6565" y="13877"/>
                  <a:pt x="6569" y="13919"/>
                </a:cubicBezTo>
                <a:cubicBezTo>
                  <a:pt x="6574" y="13980"/>
                  <a:pt x="6580" y="14049"/>
                  <a:pt x="6607" y="14105"/>
                </a:cubicBezTo>
                <a:cubicBezTo>
                  <a:pt x="6631" y="14154"/>
                  <a:pt x="6665" y="14151"/>
                  <a:pt x="6700" y="14113"/>
                </a:cubicBezTo>
                <a:cubicBezTo>
                  <a:pt x="6758" y="14051"/>
                  <a:pt x="6798" y="13967"/>
                  <a:pt x="6839" y="13894"/>
                </a:cubicBezTo>
                <a:cubicBezTo>
                  <a:pt x="6879" y="13823"/>
                  <a:pt x="6922" y="13752"/>
                  <a:pt x="6970" y="13686"/>
                </a:cubicBezTo>
                <a:cubicBezTo>
                  <a:pt x="6986" y="13667"/>
                  <a:pt x="6989" y="13661"/>
                  <a:pt x="7004" y="13654"/>
                </a:cubicBezTo>
              </a:path>
              <a:path w="1906" h="1078">
                <a:moveTo>
                  <a:pt x="7100" y="13594"/>
                </a:moveTo>
                <a:cubicBezTo>
                  <a:pt x="7147" y="13580"/>
                  <a:pt x="7138" y="13619"/>
                  <a:pt x="7135" y="13661"/>
                </a:cubicBezTo>
                <a:cubicBezTo>
                  <a:pt x="7130" y="13727"/>
                  <a:pt x="7125" y="13792"/>
                  <a:pt x="7123" y="13858"/>
                </a:cubicBezTo>
                <a:cubicBezTo>
                  <a:pt x="7122" y="13892"/>
                  <a:pt x="7115" y="13943"/>
                  <a:pt x="7152" y="13908"/>
                </a:cubicBezTo>
              </a:path>
              <a:path w="1906" h="1078">
                <a:moveTo>
                  <a:pt x="7364" y="13487"/>
                </a:moveTo>
                <a:cubicBezTo>
                  <a:pt x="7369" y="13534"/>
                  <a:pt x="7360" y="13572"/>
                  <a:pt x="7353" y="13619"/>
                </a:cubicBezTo>
                <a:cubicBezTo>
                  <a:pt x="7345" y="13671"/>
                  <a:pt x="7326" y="13759"/>
                  <a:pt x="7366" y="13803"/>
                </a:cubicBezTo>
                <a:cubicBezTo>
                  <a:pt x="7397" y="13837"/>
                  <a:pt x="7444" y="13809"/>
                  <a:pt x="7472" y="13789"/>
                </a:cubicBezTo>
                <a:cubicBezTo>
                  <a:pt x="7509" y="13763"/>
                  <a:pt x="7543" y="13724"/>
                  <a:pt x="7558" y="13681"/>
                </a:cubicBezTo>
                <a:cubicBezTo>
                  <a:pt x="7560" y="13672"/>
                  <a:pt x="7561" y="13662"/>
                  <a:pt x="7563" y="13653"/>
                </a:cubicBezTo>
              </a:path>
              <a:path w="1906" h="1078">
                <a:moveTo>
                  <a:pt x="7396" y="13617"/>
                </a:moveTo>
                <a:cubicBezTo>
                  <a:pt x="7392" y="13625"/>
                  <a:pt x="7387" y="13633"/>
                  <a:pt x="7383" y="13641"/>
                </a:cubicBezTo>
                <a:cubicBezTo>
                  <a:pt x="7416" y="13655"/>
                  <a:pt x="7436" y="13643"/>
                  <a:pt x="7470" y="13624"/>
                </a:cubicBezTo>
                <a:cubicBezTo>
                  <a:pt x="7508" y="13603"/>
                  <a:pt x="7530" y="13578"/>
                  <a:pt x="7552" y="13542"/>
                </a:cubicBezTo>
              </a:path>
              <a:path w="1906" h="1078">
                <a:moveTo>
                  <a:pt x="7395" y="13400"/>
                </a:moveTo>
                <a:cubicBezTo>
                  <a:pt x="7389" y="13400"/>
                  <a:pt x="7382" y="13400"/>
                  <a:pt x="7376" y="13400"/>
                </a:cubicBezTo>
                <a:cubicBezTo>
                  <a:pt x="7415" y="13394"/>
                  <a:pt x="7452" y="13384"/>
                  <a:pt x="7490" y="13375"/>
                </a:cubicBezTo>
                <a:cubicBezTo>
                  <a:pt x="7535" y="13364"/>
                  <a:pt x="7579" y="13357"/>
                  <a:pt x="7624" y="13350"/>
                </a:cubicBezTo>
              </a:path>
              <a:path w="1906" h="1078">
                <a:moveTo>
                  <a:pt x="7799" y="13396"/>
                </a:moveTo>
                <a:cubicBezTo>
                  <a:pt x="7806" y="13374"/>
                  <a:pt x="7809" y="13368"/>
                  <a:pt x="7815" y="13355"/>
                </a:cubicBezTo>
                <a:cubicBezTo>
                  <a:pt x="7816" y="13400"/>
                  <a:pt x="7808" y="13444"/>
                  <a:pt x="7807" y="13489"/>
                </a:cubicBezTo>
                <a:cubicBezTo>
                  <a:pt x="7806" y="13512"/>
                  <a:pt x="7799" y="13579"/>
                  <a:pt x="7835" y="13586"/>
                </a:cubicBezTo>
                <a:cubicBezTo>
                  <a:pt x="7877" y="13594"/>
                  <a:pt x="7923" y="13527"/>
                  <a:pt x="7945" y="13503"/>
                </a:cubicBezTo>
                <a:cubicBezTo>
                  <a:pt x="7982" y="13461"/>
                  <a:pt x="8014" y="13400"/>
                  <a:pt x="8065" y="13377"/>
                </a:cubicBezTo>
                <a:cubicBezTo>
                  <a:pt x="8069" y="13411"/>
                  <a:pt x="8066" y="13465"/>
                  <a:pt x="8085" y="13495"/>
                </a:cubicBezTo>
                <a:cubicBezTo>
                  <a:pt x="8108" y="13532"/>
                  <a:pt x="8160" y="13501"/>
                  <a:pt x="8184" y="13483"/>
                </a:cubicBezTo>
                <a:cubicBezTo>
                  <a:pt x="8245" y="13437"/>
                  <a:pt x="8296" y="13368"/>
                  <a:pt x="8339" y="13306"/>
                </a:cubicBezTo>
                <a:cubicBezTo>
                  <a:pt x="8376" y="13252"/>
                  <a:pt x="8412" y="13188"/>
                  <a:pt x="8434" y="13126"/>
                </a:cubicBezTo>
                <a:cubicBezTo>
                  <a:pt x="8442" y="13096"/>
                  <a:pt x="8444" y="13087"/>
                  <a:pt x="8448" y="1306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E8DC5E-EB57-48D1-BC50-D9683CC5B533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mac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133800" y="3281400"/>
            <a:ext cx="1944720" cy="552240"/>
          </a:xfrm>
          <a:custGeom>
            <a:avLst/>
            <a:gdLst/>
            <a:ahLst/>
            <a:rect l="l" t="t" r="r" b="b"/>
            <a:pathLst>
              <a:path w="5401" h="1534">
                <a:moveTo>
                  <a:pt x="8813" y="10510"/>
                </a:moveTo>
                <a:cubicBezTo>
                  <a:pt x="8842" y="10432"/>
                  <a:pt x="8875" y="10374"/>
                  <a:pt x="8929" y="10309"/>
                </a:cubicBezTo>
                <a:cubicBezTo>
                  <a:pt x="9008" y="10212"/>
                  <a:pt x="9104" y="10127"/>
                  <a:pt x="9205" y="10053"/>
                </a:cubicBezTo>
                <a:cubicBezTo>
                  <a:pt x="9324" y="9965"/>
                  <a:pt x="9456" y="9889"/>
                  <a:pt x="9590" y="9824"/>
                </a:cubicBezTo>
                <a:cubicBezTo>
                  <a:pt x="9699" y="9771"/>
                  <a:pt x="9814" y="9727"/>
                  <a:pt x="9927" y="9683"/>
                </a:cubicBezTo>
                <a:cubicBezTo>
                  <a:pt x="9979" y="9663"/>
                  <a:pt x="10032" y="9644"/>
                  <a:pt x="10083" y="9623"/>
                </a:cubicBezTo>
              </a:path>
              <a:path w="5401" h="1534">
                <a:moveTo>
                  <a:pt x="8732" y="10281"/>
                </a:moveTo>
                <a:cubicBezTo>
                  <a:pt x="8732" y="10275"/>
                  <a:pt x="8732" y="10268"/>
                  <a:pt x="8732" y="10262"/>
                </a:cubicBezTo>
                <a:cubicBezTo>
                  <a:pt x="8732" y="10220"/>
                  <a:pt x="8729" y="10303"/>
                  <a:pt x="8729" y="10308"/>
                </a:cubicBezTo>
                <a:cubicBezTo>
                  <a:pt x="8725" y="10375"/>
                  <a:pt x="8715" y="10441"/>
                  <a:pt x="8709" y="10508"/>
                </a:cubicBezTo>
                <a:cubicBezTo>
                  <a:pt x="8707" y="10529"/>
                  <a:pt x="8692" y="10620"/>
                  <a:pt x="8712" y="10638"/>
                </a:cubicBezTo>
                <a:cubicBezTo>
                  <a:pt x="8747" y="10670"/>
                  <a:pt x="8803" y="10614"/>
                  <a:pt x="8829" y="10596"/>
                </a:cubicBezTo>
                <a:cubicBezTo>
                  <a:pt x="8890" y="10553"/>
                  <a:pt x="8947" y="10503"/>
                  <a:pt x="9011" y="10464"/>
                </a:cubicBezTo>
                <a:cubicBezTo>
                  <a:pt x="9055" y="10437"/>
                  <a:pt x="9102" y="10416"/>
                  <a:pt x="9146" y="10388"/>
                </a:cubicBezTo>
                <a:cubicBezTo>
                  <a:pt x="9152" y="10384"/>
                  <a:pt x="9157" y="10380"/>
                  <a:pt x="9163" y="10376"/>
                </a:cubicBezTo>
              </a:path>
              <a:path w="5401" h="1534">
                <a:moveTo>
                  <a:pt x="10468" y="9507"/>
                </a:moveTo>
                <a:cubicBezTo>
                  <a:pt x="10441" y="9543"/>
                  <a:pt x="10421" y="9580"/>
                  <a:pt x="10403" y="9621"/>
                </a:cubicBezTo>
                <a:cubicBezTo>
                  <a:pt x="10381" y="9671"/>
                  <a:pt x="10359" y="9722"/>
                  <a:pt x="10337" y="9773"/>
                </a:cubicBezTo>
              </a:path>
              <a:path w="5401" h="1534">
                <a:moveTo>
                  <a:pt x="10498" y="9493"/>
                </a:moveTo>
                <a:cubicBezTo>
                  <a:pt x="10504" y="9487"/>
                  <a:pt x="10509" y="9482"/>
                  <a:pt x="10515" y="9476"/>
                </a:cubicBezTo>
                <a:cubicBezTo>
                  <a:pt x="10507" y="9536"/>
                  <a:pt x="10483" y="9594"/>
                  <a:pt x="10485" y="9656"/>
                </a:cubicBezTo>
                <a:cubicBezTo>
                  <a:pt x="10486" y="9689"/>
                  <a:pt x="10496" y="9730"/>
                  <a:pt x="10536" y="9732"/>
                </a:cubicBezTo>
                <a:cubicBezTo>
                  <a:pt x="10586" y="9734"/>
                  <a:pt x="10639" y="9685"/>
                  <a:pt x="10672" y="9654"/>
                </a:cubicBezTo>
                <a:cubicBezTo>
                  <a:pt x="10738" y="9592"/>
                  <a:pt x="10795" y="9516"/>
                  <a:pt x="10844" y="9440"/>
                </a:cubicBezTo>
                <a:cubicBezTo>
                  <a:pt x="10861" y="9412"/>
                  <a:pt x="10865" y="9406"/>
                  <a:pt x="10874" y="9388"/>
                </a:cubicBezTo>
              </a:path>
              <a:path w="5401" h="1534">
                <a:moveTo>
                  <a:pt x="10795" y="9775"/>
                </a:moveTo>
                <a:cubicBezTo>
                  <a:pt x="10812" y="9739"/>
                  <a:pt x="10831" y="9710"/>
                  <a:pt x="10856" y="9679"/>
                </a:cubicBezTo>
                <a:cubicBezTo>
                  <a:pt x="10904" y="9619"/>
                  <a:pt x="10952" y="9560"/>
                  <a:pt x="11001" y="9500"/>
                </a:cubicBezTo>
                <a:cubicBezTo>
                  <a:pt x="11039" y="9454"/>
                  <a:pt x="11078" y="9408"/>
                  <a:pt x="11116" y="9362"/>
                </a:cubicBezTo>
                <a:cubicBezTo>
                  <a:pt x="11131" y="9407"/>
                  <a:pt x="11109" y="9446"/>
                  <a:pt x="11096" y="9495"/>
                </a:cubicBezTo>
                <a:cubicBezTo>
                  <a:pt x="11081" y="9549"/>
                  <a:pt x="11067" y="9602"/>
                  <a:pt x="11064" y="9658"/>
                </a:cubicBezTo>
                <a:cubicBezTo>
                  <a:pt x="11063" y="9669"/>
                  <a:pt x="11073" y="9727"/>
                  <a:pt x="11060" y="9685"/>
                </a:cubicBezTo>
              </a:path>
              <a:path w="5401" h="1534">
                <a:moveTo>
                  <a:pt x="10985" y="9601"/>
                </a:moveTo>
                <a:cubicBezTo>
                  <a:pt x="10977" y="9598"/>
                  <a:pt x="10969" y="9596"/>
                  <a:pt x="10961" y="9593"/>
                </a:cubicBezTo>
                <a:cubicBezTo>
                  <a:pt x="10988" y="9573"/>
                  <a:pt x="11014" y="9566"/>
                  <a:pt x="11046" y="9555"/>
                </a:cubicBezTo>
                <a:cubicBezTo>
                  <a:pt x="11080" y="9544"/>
                  <a:pt x="11113" y="9531"/>
                  <a:pt x="11146" y="9518"/>
                </a:cubicBezTo>
              </a:path>
              <a:path w="5401" h="1534">
                <a:moveTo>
                  <a:pt x="11286" y="9358"/>
                </a:moveTo>
                <a:cubicBezTo>
                  <a:pt x="11293" y="9408"/>
                  <a:pt x="11272" y="9439"/>
                  <a:pt x="11258" y="9489"/>
                </a:cubicBezTo>
                <a:cubicBezTo>
                  <a:pt x="11247" y="9530"/>
                  <a:pt x="11224" y="9596"/>
                  <a:pt x="11242" y="9638"/>
                </a:cubicBezTo>
                <a:cubicBezTo>
                  <a:pt x="11257" y="9674"/>
                  <a:pt x="11315" y="9660"/>
                  <a:pt x="11341" y="9648"/>
                </a:cubicBezTo>
                <a:cubicBezTo>
                  <a:pt x="11395" y="9623"/>
                  <a:pt x="11441" y="9575"/>
                  <a:pt x="11478" y="9529"/>
                </a:cubicBezTo>
                <a:cubicBezTo>
                  <a:pt x="11508" y="9491"/>
                  <a:pt x="11535" y="9450"/>
                  <a:pt x="11559" y="9407"/>
                </a:cubicBezTo>
                <a:cubicBezTo>
                  <a:pt x="11569" y="9388"/>
                  <a:pt x="11572" y="9382"/>
                  <a:pt x="11581" y="9371"/>
                </a:cubicBezTo>
              </a:path>
              <a:path w="5401" h="1534">
                <a:moveTo>
                  <a:pt x="11731" y="9396"/>
                </a:moveTo>
                <a:cubicBezTo>
                  <a:pt x="11734" y="9380"/>
                  <a:pt x="11734" y="9376"/>
                  <a:pt x="11737" y="9366"/>
                </a:cubicBezTo>
                <a:cubicBezTo>
                  <a:pt x="11726" y="9406"/>
                  <a:pt x="11710" y="9443"/>
                  <a:pt x="11696" y="9482"/>
                </a:cubicBezTo>
                <a:cubicBezTo>
                  <a:pt x="11680" y="9527"/>
                  <a:pt x="11663" y="9577"/>
                  <a:pt x="11656" y="9624"/>
                </a:cubicBezTo>
                <a:cubicBezTo>
                  <a:pt x="11656" y="9641"/>
                  <a:pt x="11657" y="9647"/>
                  <a:pt x="11676" y="9641"/>
                </a:cubicBezTo>
              </a:path>
              <a:path w="5401" h="1534">
                <a:moveTo>
                  <a:pt x="12073" y="9254"/>
                </a:moveTo>
                <a:cubicBezTo>
                  <a:pt x="12038" y="9242"/>
                  <a:pt x="12024" y="9271"/>
                  <a:pt x="12002" y="9302"/>
                </a:cubicBezTo>
                <a:cubicBezTo>
                  <a:pt x="11966" y="9352"/>
                  <a:pt x="11940" y="9408"/>
                  <a:pt x="11924" y="9468"/>
                </a:cubicBezTo>
                <a:cubicBezTo>
                  <a:pt x="11912" y="9510"/>
                  <a:pt x="11898" y="9572"/>
                  <a:pt x="11931" y="9609"/>
                </a:cubicBezTo>
                <a:cubicBezTo>
                  <a:pt x="11949" y="9630"/>
                  <a:pt x="11997" y="9620"/>
                  <a:pt x="12016" y="9606"/>
                </a:cubicBezTo>
                <a:cubicBezTo>
                  <a:pt x="12049" y="9582"/>
                  <a:pt x="12059" y="9542"/>
                  <a:pt x="12061" y="9504"/>
                </a:cubicBezTo>
                <a:cubicBezTo>
                  <a:pt x="12063" y="9472"/>
                  <a:pt x="12052" y="9461"/>
                  <a:pt x="12025" y="9465"/>
                </a:cubicBezTo>
                <a:cubicBezTo>
                  <a:pt x="12065" y="9473"/>
                  <a:pt x="12098" y="9463"/>
                  <a:pt x="12138" y="9452"/>
                </a:cubicBezTo>
                <a:cubicBezTo>
                  <a:pt x="12196" y="9437"/>
                  <a:pt x="12254" y="9424"/>
                  <a:pt x="12313" y="9416"/>
                </a:cubicBezTo>
                <a:cubicBezTo>
                  <a:pt x="12324" y="9415"/>
                  <a:pt x="12335" y="9414"/>
                  <a:pt x="12346" y="9413"/>
                </a:cubicBezTo>
              </a:path>
              <a:path w="5401" h="1534">
                <a:moveTo>
                  <a:pt x="12212" y="9591"/>
                </a:moveTo>
                <a:cubicBezTo>
                  <a:pt x="12191" y="9589"/>
                  <a:pt x="12265" y="9539"/>
                  <a:pt x="12289" y="9516"/>
                </a:cubicBezTo>
                <a:cubicBezTo>
                  <a:pt x="12352" y="9456"/>
                  <a:pt x="12414" y="9397"/>
                  <a:pt x="12470" y="9331"/>
                </a:cubicBezTo>
                <a:cubicBezTo>
                  <a:pt x="12508" y="9287"/>
                  <a:pt x="12541" y="9239"/>
                  <a:pt x="12578" y="9194"/>
                </a:cubicBezTo>
                <a:cubicBezTo>
                  <a:pt x="12542" y="9307"/>
                  <a:pt x="12489" y="9424"/>
                  <a:pt x="12485" y="9543"/>
                </a:cubicBezTo>
                <a:cubicBezTo>
                  <a:pt x="12485" y="9563"/>
                  <a:pt x="12485" y="9569"/>
                  <a:pt x="12487" y="9582"/>
                </a:cubicBezTo>
              </a:path>
              <a:path w="5401" h="1534">
                <a:moveTo>
                  <a:pt x="12379" y="9455"/>
                </a:moveTo>
                <a:cubicBezTo>
                  <a:pt x="12421" y="9437"/>
                  <a:pt x="12464" y="9419"/>
                  <a:pt x="12507" y="9401"/>
                </a:cubicBezTo>
                <a:cubicBezTo>
                  <a:pt x="12559" y="9379"/>
                  <a:pt x="12606" y="9354"/>
                  <a:pt x="12655" y="9326"/>
                </a:cubicBezTo>
                <a:cubicBezTo>
                  <a:pt x="12667" y="9319"/>
                  <a:pt x="12679" y="9313"/>
                  <a:pt x="12691" y="9306"/>
                </a:cubicBezTo>
              </a:path>
              <a:path w="5401" h="1534">
                <a:moveTo>
                  <a:pt x="12636" y="9257"/>
                </a:moveTo>
                <a:cubicBezTo>
                  <a:pt x="12613" y="9282"/>
                  <a:pt x="12705" y="9245"/>
                  <a:pt x="12729" y="9238"/>
                </a:cubicBezTo>
                <a:cubicBezTo>
                  <a:pt x="12802" y="9216"/>
                  <a:pt x="12874" y="9187"/>
                  <a:pt x="12945" y="9160"/>
                </a:cubicBezTo>
                <a:cubicBezTo>
                  <a:pt x="12980" y="9147"/>
                  <a:pt x="13013" y="9132"/>
                  <a:pt x="13047" y="9116"/>
                </a:cubicBezTo>
              </a:path>
              <a:path w="5401" h="1534">
                <a:moveTo>
                  <a:pt x="12915" y="9181"/>
                </a:moveTo>
                <a:cubicBezTo>
                  <a:pt x="12881" y="9216"/>
                  <a:pt x="12858" y="9253"/>
                  <a:pt x="12828" y="9292"/>
                </a:cubicBezTo>
                <a:cubicBezTo>
                  <a:pt x="12783" y="9349"/>
                  <a:pt x="12746" y="9410"/>
                  <a:pt x="12716" y="9477"/>
                </a:cubicBezTo>
                <a:cubicBezTo>
                  <a:pt x="12702" y="9508"/>
                  <a:pt x="12700" y="9514"/>
                  <a:pt x="12726" y="9511"/>
                </a:cubicBezTo>
              </a:path>
              <a:path w="5401" h="1534">
                <a:moveTo>
                  <a:pt x="13164" y="9218"/>
                </a:moveTo>
                <a:cubicBezTo>
                  <a:pt x="13169" y="9211"/>
                  <a:pt x="13173" y="9205"/>
                  <a:pt x="13178" y="9198"/>
                </a:cubicBezTo>
                <a:cubicBezTo>
                  <a:pt x="13141" y="9240"/>
                  <a:pt x="13114" y="9281"/>
                  <a:pt x="13088" y="9330"/>
                </a:cubicBezTo>
                <a:cubicBezTo>
                  <a:pt x="13068" y="9368"/>
                  <a:pt x="13045" y="9408"/>
                  <a:pt x="13034" y="9449"/>
                </a:cubicBezTo>
                <a:cubicBezTo>
                  <a:pt x="13033" y="9454"/>
                  <a:pt x="13033" y="9459"/>
                  <a:pt x="13032" y="9464"/>
                </a:cubicBezTo>
              </a:path>
              <a:path w="5401" h="1534">
                <a:moveTo>
                  <a:pt x="13383" y="9163"/>
                </a:moveTo>
                <a:cubicBezTo>
                  <a:pt x="13368" y="9130"/>
                  <a:pt x="13331" y="9169"/>
                  <a:pt x="13306" y="9199"/>
                </a:cubicBezTo>
                <a:cubicBezTo>
                  <a:pt x="13272" y="9240"/>
                  <a:pt x="13233" y="9303"/>
                  <a:pt x="13226" y="9357"/>
                </a:cubicBezTo>
                <a:cubicBezTo>
                  <a:pt x="13220" y="9401"/>
                  <a:pt x="13247" y="9434"/>
                  <a:pt x="13292" y="9424"/>
                </a:cubicBezTo>
                <a:cubicBezTo>
                  <a:pt x="13364" y="9409"/>
                  <a:pt x="13429" y="9334"/>
                  <a:pt x="13463" y="9274"/>
                </a:cubicBezTo>
                <a:cubicBezTo>
                  <a:pt x="13476" y="9251"/>
                  <a:pt x="13514" y="9174"/>
                  <a:pt x="13486" y="9147"/>
                </a:cubicBezTo>
                <a:cubicBezTo>
                  <a:pt x="13460" y="9122"/>
                  <a:pt x="13432" y="9142"/>
                  <a:pt x="13416" y="9165"/>
                </a:cubicBezTo>
                <a:cubicBezTo>
                  <a:pt x="13408" y="9180"/>
                  <a:pt x="13405" y="9185"/>
                  <a:pt x="13412" y="9196"/>
                </a:cubicBezTo>
              </a:path>
              <a:path w="5401" h="1534">
                <a:moveTo>
                  <a:pt x="13730" y="9118"/>
                </a:moveTo>
                <a:cubicBezTo>
                  <a:pt x="13697" y="9146"/>
                  <a:pt x="13669" y="9178"/>
                  <a:pt x="13642" y="9213"/>
                </a:cubicBezTo>
                <a:cubicBezTo>
                  <a:pt x="13607" y="9259"/>
                  <a:pt x="13573" y="9311"/>
                  <a:pt x="13549" y="9363"/>
                </a:cubicBezTo>
                <a:cubicBezTo>
                  <a:pt x="13541" y="9383"/>
                  <a:pt x="13538" y="9387"/>
                  <a:pt x="13540" y="9401"/>
                </a:cubicBezTo>
                <a:cubicBezTo>
                  <a:pt x="13586" y="9381"/>
                  <a:pt x="13613" y="9348"/>
                  <a:pt x="13647" y="9310"/>
                </a:cubicBezTo>
                <a:cubicBezTo>
                  <a:pt x="13694" y="9258"/>
                  <a:pt x="13732" y="9193"/>
                  <a:pt x="13782" y="9144"/>
                </a:cubicBezTo>
                <a:cubicBezTo>
                  <a:pt x="13787" y="9141"/>
                  <a:pt x="13793" y="9137"/>
                  <a:pt x="13798" y="9134"/>
                </a:cubicBezTo>
                <a:cubicBezTo>
                  <a:pt x="13786" y="9181"/>
                  <a:pt x="13770" y="9226"/>
                  <a:pt x="13768" y="9274"/>
                </a:cubicBezTo>
                <a:cubicBezTo>
                  <a:pt x="13766" y="9315"/>
                  <a:pt x="13768" y="9372"/>
                  <a:pt x="13812" y="9393"/>
                </a:cubicBezTo>
                <a:cubicBezTo>
                  <a:pt x="13860" y="9416"/>
                  <a:pt x="13923" y="9371"/>
                  <a:pt x="13958" y="9343"/>
                </a:cubicBezTo>
                <a:cubicBezTo>
                  <a:pt x="14029" y="9286"/>
                  <a:pt x="14089" y="9214"/>
                  <a:pt x="14106" y="9124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148280" y="3537000"/>
            <a:ext cx="693720" cy="203040"/>
          </a:xfrm>
          <a:custGeom>
            <a:avLst/>
            <a:gdLst/>
            <a:ahLst/>
            <a:rect l="l" t="t" r="r" b="b"/>
            <a:pathLst>
              <a:path w="1928" h="567">
                <a:moveTo>
                  <a:pt x="11614" y="10067"/>
                </a:moveTo>
                <a:cubicBezTo>
                  <a:pt x="11619" y="10062"/>
                  <a:pt x="11624" y="10058"/>
                  <a:pt x="11629" y="10053"/>
                </a:cubicBezTo>
                <a:cubicBezTo>
                  <a:pt x="11620" y="10085"/>
                  <a:pt x="11605" y="10116"/>
                  <a:pt x="11593" y="10148"/>
                </a:cubicBezTo>
                <a:cubicBezTo>
                  <a:pt x="11572" y="10204"/>
                  <a:pt x="11555" y="10260"/>
                  <a:pt x="11537" y="10317"/>
                </a:cubicBezTo>
                <a:cubicBezTo>
                  <a:pt x="11529" y="10343"/>
                  <a:pt x="11525" y="10363"/>
                  <a:pt x="11523" y="10390"/>
                </a:cubicBezTo>
              </a:path>
              <a:path w="1928" h="567">
                <a:moveTo>
                  <a:pt x="11665" y="10049"/>
                </a:moveTo>
                <a:cubicBezTo>
                  <a:pt x="11673" y="10083"/>
                  <a:pt x="11658" y="10115"/>
                  <a:pt x="11655" y="10152"/>
                </a:cubicBezTo>
                <a:cubicBezTo>
                  <a:pt x="11652" y="10187"/>
                  <a:pt x="11667" y="10221"/>
                  <a:pt x="11709" y="10210"/>
                </a:cubicBezTo>
                <a:cubicBezTo>
                  <a:pt x="11770" y="10194"/>
                  <a:pt x="11833" y="10140"/>
                  <a:pt x="11877" y="10098"/>
                </a:cubicBezTo>
                <a:cubicBezTo>
                  <a:pt x="11926" y="10052"/>
                  <a:pt x="11968" y="10003"/>
                  <a:pt x="12008" y="9950"/>
                </a:cubicBezTo>
                <a:cubicBezTo>
                  <a:pt x="12013" y="9944"/>
                  <a:pt x="12017" y="9939"/>
                  <a:pt x="12022" y="9933"/>
                </a:cubicBezTo>
                <a:cubicBezTo>
                  <a:pt x="12009" y="9993"/>
                  <a:pt x="11983" y="10047"/>
                  <a:pt x="11964" y="10106"/>
                </a:cubicBezTo>
                <a:cubicBezTo>
                  <a:pt x="11949" y="10154"/>
                  <a:pt x="11927" y="10208"/>
                  <a:pt x="11927" y="10259"/>
                </a:cubicBezTo>
                <a:cubicBezTo>
                  <a:pt x="11931" y="10278"/>
                  <a:pt x="11935" y="10283"/>
                  <a:pt x="11955" y="10269"/>
                </a:cubicBezTo>
              </a:path>
              <a:path w="1928" h="567">
                <a:moveTo>
                  <a:pt x="12212" y="9970"/>
                </a:moveTo>
                <a:cubicBezTo>
                  <a:pt x="12190" y="10014"/>
                  <a:pt x="12168" y="10057"/>
                  <a:pt x="12149" y="10102"/>
                </a:cubicBezTo>
                <a:cubicBezTo>
                  <a:pt x="12127" y="10155"/>
                  <a:pt x="12103" y="10214"/>
                  <a:pt x="12108" y="10273"/>
                </a:cubicBezTo>
                <a:cubicBezTo>
                  <a:pt x="12112" y="10318"/>
                  <a:pt x="12144" y="10338"/>
                  <a:pt x="12188" y="10330"/>
                </a:cubicBezTo>
                <a:cubicBezTo>
                  <a:pt x="12235" y="10321"/>
                  <a:pt x="12285" y="10288"/>
                  <a:pt x="12317" y="10252"/>
                </a:cubicBezTo>
                <a:cubicBezTo>
                  <a:pt x="12338" y="10222"/>
                  <a:pt x="12345" y="10213"/>
                  <a:pt x="12352" y="10189"/>
                </a:cubicBezTo>
              </a:path>
              <a:path w="1928" h="567">
                <a:moveTo>
                  <a:pt x="12184" y="10077"/>
                </a:moveTo>
                <a:cubicBezTo>
                  <a:pt x="12170" y="10103"/>
                  <a:pt x="12165" y="10132"/>
                  <a:pt x="12207" y="10131"/>
                </a:cubicBezTo>
                <a:cubicBezTo>
                  <a:pt x="12245" y="10130"/>
                  <a:pt x="12296" y="10111"/>
                  <a:pt x="12328" y="10091"/>
                </a:cubicBezTo>
                <a:cubicBezTo>
                  <a:pt x="12356" y="10073"/>
                  <a:pt x="12365" y="10057"/>
                  <a:pt x="12377" y="10029"/>
                </a:cubicBezTo>
              </a:path>
              <a:path w="1928" h="567">
                <a:moveTo>
                  <a:pt x="12177" y="9915"/>
                </a:moveTo>
                <a:cubicBezTo>
                  <a:pt x="12172" y="9965"/>
                  <a:pt x="12212" y="9957"/>
                  <a:pt x="12265" y="9953"/>
                </a:cubicBezTo>
                <a:cubicBezTo>
                  <a:pt x="12341" y="9947"/>
                  <a:pt x="12414" y="9928"/>
                  <a:pt x="12487" y="9910"/>
                </a:cubicBezTo>
              </a:path>
              <a:path w="1928" h="567">
                <a:moveTo>
                  <a:pt x="12627" y="10011"/>
                </a:moveTo>
                <a:cubicBezTo>
                  <a:pt x="12593" y="10032"/>
                  <a:pt x="12574" y="10063"/>
                  <a:pt x="12554" y="10098"/>
                </a:cubicBezTo>
                <a:cubicBezTo>
                  <a:pt x="12529" y="10142"/>
                  <a:pt x="12508" y="10187"/>
                  <a:pt x="12488" y="10233"/>
                </a:cubicBezTo>
                <a:cubicBezTo>
                  <a:pt x="12486" y="10238"/>
                  <a:pt x="12483" y="10243"/>
                  <a:pt x="12481" y="10248"/>
                </a:cubicBezTo>
                <a:cubicBezTo>
                  <a:pt x="12512" y="10214"/>
                  <a:pt x="12531" y="10174"/>
                  <a:pt x="12554" y="10133"/>
                </a:cubicBezTo>
                <a:cubicBezTo>
                  <a:pt x="12584" y="10077"/>
                  <a:pt x="12619" y="10025"/>
                  <a:pt x="12651" y="9970"/>
                </a:cubicBezTo>
                <a:cubicBezTo>
                  <a:pt x="12673" y="9932"/>
                  <a:pt x="12693" y="9900"/>
                  <a:pt x="12725" y="9870"/>
                </a:cubicBezTo>
                <a:cubicBezTo>
                  <a:pt x="12720" y="9936"/>
                  <a:pt x="12696" y="9997"/>
                  <a:pt x="12683" y="10062"/>
                </a:cubicBezTo>
                <a:cubicBezTo>
                  <a:pt x="12674" y="10106"/>
                  <a:pt x="12653" y="10179"/>
                  <a:pt x="12693" y="10215"/>
                </a:cubicBezTo>
                <a:cubicBezTo>
                  <a:pt x="12734" y="10252"/>
                  <a:pt x="12804" y="10207"/>
                  <a:pt x="12838" y="10184"/>
                </a:cubicBezTo>
                <a:cubicBezTo>
                  <a:pt x="12928" y="10122"/>
                  <a:pt x="13004" y="10019"/>
                  <a:pt x="13038" y="9914"/>
                </a:cubicBezTo>
                <a:cubicBezTo>
                  <a:pt x="13039" y="9909"/>
                  <a:pt x="13041" y="9903"/>
                  <a:pt x="13042" y="9898"/>
                </a:cubicBezTo>
              </a:path>
              <a:path w="1928" h="567">
                <a:moveTo>
                  <a:pt x="13153" y="9915"/>
                </a:moveTo>
                <a:cubicBezTo>
                  <a:pt x="13125" y="9955"/>
                  <a:pt x="13097" y="9997"/>
                  <a:pt x="13084" y="10045"/>
                </a:cubicBezTo>
                <a:cubicBezTo>
                  <a:pt x="13071" y="10094"/>
                  <a:pt x="13073" y="10148"/>
                  <a:pt x="13128" y="10167"/>
                </a:cubicBezTo>
                <a:cubicBezTo>
                  <a:pt x="13194" y="10190"/>
                  <a:pt x="13272" y="10147"/>
                  <a:pt x="13323" y="10109"/>
                </a:cubicBezTo>
                <a:cubicBezTo>
                  <a:pt x="13386" y="10063"/>
                  <a:pt x="13428" y="10004"/>
                  <a:pt x="13445" y="9928"/>
                </a:cubicBezTo>
                <a:cubicBezTo>
                  <a:pt x="13456" y="9878"/>
                  <a:pt x="13448" y="9858"/>
                  <a:pt x="13415" y="9824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318440" y="3822840"/>
            <a:ext cx="830160" cy="166680"/>
          </a:xfrm>
          <a:custGeom>
            <a:avLst/>
            <a:gdLst/>
            <a:ahLst/>
            <a:rect l="l" t="t" r="r" b="b"/>
            <a:pathLst>
              <a:path w="2308" h="463">
                <a:moveTo>
                  <a:pt x="20536" y="10681"/>
                </a:moveTo>
                <a:cubicBezTo>
                  <a:pt x="20547" y="10665"/>
                  <a:pt x="20550" y="10659"/>
                  <a:pt x="20553" y="10646"/>
                </a:cubicBezTo>
                <a:cubicBezTo>
                  <a:pt x="20511" y="10703"/>
                  <a:pt x="20476" y="10762"/>
                  <a:pt x="20442" y="10824"/>
                </a:cubicBezTo>
                <a:cubicBezTo>
                  <a:pt x="20407" y="10889"/>
                  <a:pt x="20375" y="10954"/>
                  <a:pt x="20348" y="11022"/>
                </a:cubicBezTo>
                <a:cubicBezTo>
                  <a:pt x="20336" y="11053"/>
                  <a:pt x="20333" y="11061"/>
                  <a:pt x="20327" y="11081"/>
                </a:cubicBezTo>
              </a:path>
              <a:path w="2308" h="463">
                <a:moveTo>
                  <a:pt x="20746" y="10661"/>
                </a:moveTo>
                <a:cubicBezTo>
                  <a:pt x="20744" y="10709"/>
                  <a:pt x="20723" y="10737"/>
                  <a:pt x="20699" y="10780"/>
                </a:cubicBezTo>
                <a:cubicBezTo>
                  <a:pt x="20669" y="10834"/>
                  <a:pt x="20641" y="10888"/>
                  <a:pt x="20613" y="10943"/>
                </a:cubicBezTo>
                <a:cubicBezTo>
                  <a:pt x="20600" y="10969"/>
                  <a:pt x="20597" y="10976"/>
                  <a:pt x="20590" y="10993"/>
                </a:cubicBezTo>
                <a:cubicBezTo>
                  <a:pt x="20633" y="10971"/>
                  <a:pt x="20658" y="10932"/>
                  <a:pt x="20684" y="10889"/>
                </a:cubicBezTo>
                <a:cubicBezTo>
                  <a:pt x="20731" y="10811"/>
                  <a:pt x="20775" y="10730"/>
                  <a:pt x="20819" y="10650"/>
                </a:cubicBezTo>
                <a:cubicBezTo>
                  <a:pt x="20822" y="10645"/>
                  <a:pt x="20825" y="10640"/>
                  <a:pt x="20828" y="10635"/>
                </a:cubicBezTo>
                <a:cubicBezTo>
                  <a:pt x="20812" y="10676"/>
                  <a:pt x="20798" y="10718"/>
                  <a:pt x="20787" y="10761"/>
                </a:cubicBezTo>
                <a:cubicBezTo>
                  <a:pt x="20774" y="10811"/>
                  <a:pt x="20757" y="10873"/>
                  <a:pt x="20781" y="10922"/>
                </a:cubicBezTo>
                <a:cubicBezTo>
                  <a:pt x="20804" y="10970"/>
                  <a:pt x="20865" y="10923"/>
                  <a:pt x="20890" y="10905"/>
                </a:cubicBezTo>
                <a:cubicBezTo>
                  <a:pt x="20951" y="10861"/>
                  <a:pt x="21003" y="10801"/>
                  <a:pt x="21052" y="10745"/>
                </a:cubicBezTo>
                <a:cubicBezTo>
                  <a:pt x="21082" y="10709"/>
                  <a:pt x="21091" y="10699"/>
                  <a:pt x="21110" y="10675"/>
                </a:cubicBezTo>
              </a:path>
              <a:path w="2308" h="463">
                <a:moveTo>
                  <a:pt x="21236" y="10653"/>
                </a:moveTo>
                <a:cubicBezTo>
                  <a:pt x="21241" y="10647"/>
                  <a:pt x="21245" y="10641"/>
                  <a:pt x="21250" y="10635"/>
                </a:cubicBezTo>
                <a:cubicBezTo>
                  <a:pt x="21220" y="10678"/>
                  <a:pt x="21195" y="10725"/>
                  <a:pt x="21171" y="10772"/>
                </a:cubicBezTo>
                <a:cubicBezTo>
                  <a:pt x="21152" y="10809"/>
                  <a:pt x="21123" y="10859"/>
                  <a:pt x="21123" y="10903"/>
                </a:cubicBezTo>
                <a:cubicBezTo>
                  <a:pt x="21123" y="10957"/>
                  <a:pt x="21186" y="10937"/>
                  <a:pt x="21214" y="10925"/>
                </a:cubicBezTo>
                <a:cubicBezTo>
                  <a:pt x="21287" y="10894"/>
                  <a:pt x="21351" y="10846"/>
                  <a:pt x="21415" y="10801"/>
                </a:cubicBezTo>
              </a:path>
              <a:path w="2308" h="463">
                <a:moveTo>
                  <a:pt x="21583" y="10680"/>
                </a:moveTo>
                <a:cubicBezTo>
                  <a:pt x="21532" y="10712"/>
                  <a:pt x="21502" y="10749"/>
                  <a:pt x="21465" y="10798"/>
                </a:cubicBezTo>
                <a:cubicBezTo>
                  <a:pt x="21438" y="10834"/>
                  <a:pt x="21403" y="10876"/>
                  <a:pt x="21392" y="10921"/>
                </a:cubicBezTo>
                <a:cubicBezTo>
                  <a:pt x="21392" y="10938"/>
                  <a:pt x="21394" y="10943"/>
                  <a:pt x="21414" y="10934"/>
                </a:cubicBezTo>
              </a:path>
              <a:path w="2308" h="463">
                <a:moveTo>
                  <a:pt x="21771" y="10714"/>
                </a:moveTo>
                <a:cubicBezTo>
                  <a:pt x="21741" y="10754"/>
                  <a:pt x="21716" y="10798"/>
                  <a:pt x="21694" y="10843"/>
                </a:cubicBezTo>
                <a:cubicBezTo>
                  <a:pt x="21682" y="10867"/>
                  <a:pt x="21674" y="10891"/>
                  <a:pt x="21665" y="10916"/>
                </a:cubicBezTo>
                <a:cubicBezTo>
                  <a:pt x="21718" y="10844"/>
                  <a:pt x="21764" y="10767"/>
                  <a:pt x="21816" y="10693"/>
                </a:cubicBezTo>
                <a:cubicBezTo>
                  <a:pt x="21835" y="10665"/>
                  <a:pt x="21855" y="10643"/>
                  <a:pt x="21879" y="10619"/>
                </a:cubicBezTo>
                <a:cubicBezTo>
                  <a:pt x="21869" y="10663"/>
                  <a:pt x="21853" y="10703"/>
                  <a:pt x="21838" y="10746"/>
                </a:cubicBezTo>
                <a:cubicBezTo>
                  <a:pt x="21822" y="10793"/>
                  <a:pt x="21798" y="10851"/>
                  <a:pt x="21807" y="10902"/>
                </a:cubicBezTo>
                <a:cubicBezTo>
                  <a:pt x="21816" y="10955"/>
                  <a:pt x="21880" y="10926"/>
                  <a:pt x="21909" y="10911"/>
                </a:cubicBezTo>
                <a:cubicBezTo>
                  <a:pt x="21976" y="10877"/>
                  <a:pt x="22038" y="10826"/>
                  <a:pt x="22096" y="10778"/>
                </a:cubicBezTo>
                <a:cubicBezTo>
                  <a:pt x="22125" y="10754"/>
                  <a:pt x="22152" y="10728"/>
                  <a:pt x="22180" y="10703"/>
                </a:cubicBezTo>
              </a:path>
              <a:path w="2308" h="463">
                <a:moveTo>
                  <a:pt x="22230" y="10685"/>
                </a:moveTo>
                <a:cubicBezTo>
                  <a:pt x="22241" y="10721"/>
                  <a:pt x="22228" y="10731"/>
                  <a:pt x="22209" y="10763"/>
                </a:cubicBezTo>
                <a:cubicBezTo>
                  <a:pt x="22182" y="10809"/>
                  <a:pt x="22162" y="10852"/>
                  <a:pt x="22159" y="10905"/>
                </a:cubicBezTo>
                <a:cubicBezTo>
                  <a:pt x="22156" y="10947"/>
                  <a:pt x="22175" y="10970"/>
                  <a:pt x="22219" y="10955"/>
                </a:cubicBezTo>
                <a:cubicBezTo>
                  <a:pt x="22272" y="10937"/>
                  <a:pt x="22319" y="10898"/>
                  <a:pt x="22359" y="10861"/>
                </a:cubicBezTo>
                <a:cubicBezTo>
                  <a:pt x="22386" y="10834"/>
                  <a:pt x="22394" y="10827"/>
                  <a:pt x="22404" y="10805"/>
                </a:cubicBezTo>
              </a:path>
              <a:path w="2308" h="463">
                <a:moveTo>
                  <a:pt x="22280" y="10722"/>
                </a:moveTo>
                <a:cubicBezTo>
                  <a:pt x="22267" y="10759"/>
                  <a:pt x="22277" y="10769"/>
                  <a:pt x="22322" y="10769"/>
                </a:cubicBezTo>
                <a:cubicBezTo>
                  <a:pt x="22360" y="10769"/>
                  <a:pt x="22404" y="10761"/>
                  <a:pt x="22439" y="10746"/>
                </a:cubicBezTo>
                <a:cubicBezTo>
                  <a:pt x="22446" y="10742"/>
                  <a:pt x="22454" y="10738"/>
                  <a:pt x="22461" y="10734"/>
                </a:cubicBezTo>
              </a:path>
              <a:path w="2308" h="463">
                <a:moveTo>
                  <a:pt x="22310" y="10647"/>
                </a:moveTo>
                <a:cubicBezTo>
                  <a:pt x="22352" y="10669"/>
                  <a:pt x="22387" y="10667"/>
                  <a:pt x="22436" y="10666"/>
                </a:cubicBezTo>
                <a:cubicBezTo>
                  <a:pt x="22503" y="10664"/>
                  <a:pt x="22568" y="10649"/>
                  <a:pt x="22634" y="1063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431120" y="4029120"/>
            <a:ext cx="1554120" cy="257040"/>
          </a:xfrm>
          <a:custGeom>
            <a:avLst/>
            <a:gdLst/>
            <a:ahLst/>
            <a:rect l="l" t="t" r="r" b="b"/>
            <a:pathLst>
              <a:path w="4316" h="716">
                <a:moveTo>
                  <a:pt x="20643" y="11905"/>
                </a:moveTo>
                <a:cubicBezTo>
                  <a:pt x="20668" y="11861"/>
                  <a:pt x="20700" y="11824"/>
                  <a:pt x="20733" y="11785"/>
                </a:cubicBezTo>
                <a:cubicBezTo>
                  <a:pt x="20815" y="11689"/>
                  <a:pt x="20906" y="11599"/>
                  <a:pt x="20996" y="11511"/>
                </a:cubicBezTo>
                <a:cubicBezTo>
                  <a:pt x="21039" y="11469"/>
                  <a:pt x="21080" y="11424"/>
                  <a:pt x="21136" y="11401"/>
                </a:cubicBezTo>
                <a:cubicBezTo>
                  <a:pt x="21125" y="11464"/>
                  <a:pt x="21095" y="11517"/>
                  <a:pt x="21070" y="11577"/>
                </a:cubicBezTo>
                <a:cubicBezTo>
                  <a:pt x="21034" y="11663"/>
                  <a:pt x="20983" y="11767"/>
                  <a:pt x="20987" y="11862"/>
                </a:cubicBezTo>
                <a:cubicBezTo>
                  <a:pt x="20988" y="11867"/>
                  <a:pt x="20989" y="11872"/>
                  <a:pt x="20990" y="11877"/>
                </a:cubicBezTo>
              </a:path>
              <a:path w="4316" h="716">
                <a:moveTo>
                  <a:pt x="20847" y="11694"/>
                </a:moveTo>
                <a:cubicBezTo>
                  <a:pt x="20886" y="11680"/>
                  <a:pt x="20926" y="11672"/>
                  <a:pt x="20966" y="11661"/>
                </a:cubicBezTo>
                <a:cubicBezTo>
                  <a:pt x="21034" y="11642"/>
                  <a:pt x="21103" y="11624"/>
                  <a:pt x="21170" y="11600"/>
                </a:cubicBezTo>
                <a:cubicBezTo>
                  <a:pt x="21220" y="11580"/>
                  <a:pt x="21236" y="11574"/>
                  <a:pt x="21268" y="11558"/>
                </a:cubicBezTo>
              </a:path>
              <a:path w="4316" h="716">
                <a:moveTo>
                  <a:pt x="21431" y="11450"/>
                </a:moveTo>
                <a:cubicBezTo>
                  <a:pt x="21399" y="11501"/>
                  <a:pt x="21356" y="11545"/>
                  <a:pt x="21322" y="11595"/>
                </a:cubicBezTo>
                <a:cubicBezTo>
                  <a:pt x="21280" y="11657"/>
                  <a:pt x="21225" y="11729"/>
                  <a:pt x="21203" y="11802"/>
                </a:cubicBezTo>
                <a:cubicBezTo>
                  <a:pt x="21203" y="11807"/>
                  <a:pt x="21202" y="11812"/>
                  <a:pt x="21202" y="11817"/>
                </a:cubicBezTo>
                <a:cubicBezTo>
                  <a:pt x="21239" y="11785"/>
                  <a:pt x="21266" y="11743"/>
                  <a:pt x="21295" y="11703"/>
                </a:cubicBezTo>
                <a:cubicBezTo>
                  <a:pt x="21335" y="11646"/>
                  <a:pt x="21374" y="11589"/>
                  <a:pt x="21417" y="11534"/>
                </a:cubicBezTo>
                <a:cubicBezTo>
                  <a:pt x="21434" y="11511"/>
                  <a:pt x="21438" y="11505"/>
                  <a:pt x="21454" y="11495"/>
                </a:cubicBezTo>
                <a:cubicBezTo>
                  <a:pt x="21441" y="11542"/>
                  <a:pt x="21423" y="11591"/>
                  <a:pt x="21417" y="11640"/>
                </a:cubicBezTo>
                <a:cubicBezTo>
                  <a:pt x="21412" y="11683"/>
                  <a:pt x="21418" y="11736"/>
                  <a:pt x="21464" y="11754"/>
                </a:cubicBezTo>
                <a:cubicBezTo>
                  <a:pt x="21517" y="11775"/>
                  <a:pt x="21577" y="11728"/>
                  <a:pt x="21616" y="11699"/>
                </a:cubicBezTo>
                <a:cubicBezTo>
                  <a:pt x="21667" y="11662"/>
                  <a:pt x="21705" y="11620"/>
                  <a:pt x="21744" y="11570"/>
                </a:cubicBezTo>
              </a:path>
              <a:path w="4316" h="716">
                <a:moveTo>
                  <a:pt x="21861" y="11487"/>
                </a:moveTo>
                <a:cubicBezTo>
                  <a:pt x="21841" y="11523"/>
                  <a:pt x="21812" y="11554"/>
                  <a:pt x="21788" y="11589"/>
                </a:cubicBezTo>
                <a:cubicBezTo>
                  <a:pt x="21758" y="11631"/>
                  <a:pt x="21725" y="11674"/>
                  <a:pt x="21706" y="11723"/>
                </a:cubicBezTo>
                <a:cubicBezTo>
                  <a:pt x="21700" y="11744"/>
                  <a:pt x="21697" y="11751"/>
                  <a:pt x="21719" y="11751"/>
                </a:cubicBezTo>
                <a:cubicBezTo>
                  <a:pt x="21767" y="11719"/>
                  <a:pt x="21806" y="11682"/>
                  <a:pt x="21846" y="11640"/>
                </a:cubicBezTo>
                <a:cubicBezTo>
                  <a:pt x="21897" y="11587"/>
                  <a:pt x="21949" y="11534"/>
                  <a:pt x="21997" y="11479"/>
                </a:cubicBezTo>
                <a:cubicBezTo>
                  <a:pt x="22015" y="11457"/>
                  <a:pt x="22018" y="11451"/>
                  <a:pt x="22032" y="11440"/>
                </a:cubicBezTo>
                <a:cubicBezTo>
                  <a:pt x="22002" y="11482"/>
                  <a:pt x="21973" y="11524"/>
                  <a:pt x="21955" y="11573"/>
                </a:cubicBezTo>
                <a:cubicBezTo>
                  <a:pt x="21942" y="11609"/>
                  <a:pt x="21934" y="11655"/>
                  <a:pt x="21974" y="11676"/>
                </a:cubicBezTo>
                <a:cubicBezTo>
                  <a:pt x="22016" y="11698"/>
                  <a:pt x="22077" y="11664"/>
                  <a:pt x="22114" y="11645"/>
                </a:cubicBezTo>
                <a:cubicBezTo>
                  <a:pt x="22158" y="11622"/>
                  <a:pt x="22192" y="11592"/>
                  <a:pt x="22229" y="11559"/>
                </a:cubicBezTo>
              </a:path>
              <a:path w="4316" h="716">
                <a:moveTo>
                  <a:pt x="22477" y="11497"/>
                </a:moveTo>
                <a:cubicBezTo>
                  <a:pt x="22494" y="11468"/>
                  <a:pt x="22499" y="11471"/>
                  <a:pt x="22486" y="11444"/>
                </a:cubicBezTo>
                <a:cubicBezTo>
                  <a:pt x="22439" y="11466"/>
                  <a:pt x="22396" y="11494"/>
                  <a:pt x="22361" y="11533"/>
                </a:cubicBezTo>
                <a:cubicBezTo>
                  <a:pt x="22328" y="11570"/>
                  <a:pt x="22273" y="11635"/>
                  <a:pt x="22277" y="11689"/>
                </a:cubicBezTo>
                <a:cubicBezTo>
                  <a:pt x="22281" y="11753"/>
                  <a:pt x="22365" y="11721"/>
                  <a:pt x="22396" y="11709"/>
                </a:cubicBezTo>
                <a:cubicBezTo>
                  <a:pt x="22464" y="11683"/>
                  <a:pt x="22527" y="11641"/>
                  <a:pt x="22576" y="11587"/>
                </a:cubicBezTo>
                <a:cubicBezTo>
                  <a:pt x="22605" y="11555"/>
                  <a:pt x="22641" y="11505"/>
                  <a:pt x="22622" y="11460"/>
                </a:cubicBezTo>
                <a:cubicBezTo>
                  <a:pt x="22611" y="11433"/>
                  <a:pt x="22595" y="11434"/>
                  <a:pt x="22570" y="11429"/>
                </a:cubicBezTo>
              </a:path>
              <a:path w="4316" h="716">
                <a:moveTo>
                  <a:pt x="22842" y="11447"/>
                </a:moveTo>
                <a:cubicBezTo>
                  <a:pt x="22848" y="11445"/>
                  <a:pt x="22855" y="11442"/>
                  <a:pt x="22861" y="11440"/>
                </a:cubicBezTo>
                <a:cubicBezTo>
                  <a:pt x="22839" y="11480"/>
                  <a:pt x="22817" y="11519"/>
                  <a:pt x="22795" y="11559"/>
                </a:cubicBezTo>
                <a:cubicBezTo>
                  <a:pt x="22775" y="11597"/>
                  <a:pt x="22755" y="11635"/>
                  <a:pt x="22742" y="11676"/>
                </a:cubicBezTo>
                <a:cubicBezTo>
                  <a:pt x="22741" y="11681"/>
                  <a:pt x="22739" y="11686"/>
                  <a:pt x="22738" y="11691"/>
                </a:cubicBezTo>
              </a:path>
              <a:path w="4316" h="716">
                <a:moveTo>
                  <a:pt x="22725" y="11483"/>
                </a:moveTo>
                <a:cubicBezTo>
                  <a:pt x="22712" y="11468"/>
                  <a:pt x="22708" y="11464"/>
                  <a:pt x="22703" y="11452"/>
                </a:cubicBezTo>
                <a:cubicBezTo>
                  <a:pt x="22745" y="11438"/>
                  <a:pt x="22790" y="11431"/>
                  <a:pt x="22834" y="11423"/>
                </a:cubicBezTo>
                <a:cubicBezTo>
                  <a:pt x="22911" y="11409"/>
                  <a:pt x="22986" y="11402"/>
                  <a:pt x="23064" y="11406"/>
                </a:cubicBezTo>
              </a:path>
              <a:path w="4316" h="716">
                <a:moveTo>
                  <a:pt x="22925" y="11763"/>
                </a:moveTo>
                <a:cubicBezTo>
                  <a:pt x="22908" y="11745"/>
                  <a:pt x="22917" y="11738"/>
                  <a:pt x="22946" y="11707"/>
                </a:cubicBezTo>
                <a:cubicBezTo>
                  <a:pt x="22999" y="11650"/>
                  <a:pt x="23061" y="11601"/>
                  <a:pt x="23118" y="11548"/>
                </a:cubicBezTo>
                <a:cubicBezTo>
                  <a:pt x="23192" y="11479"/>
                  <a:pt x="23267" y="11412"/>
                  <a:pt x="23346" y="11348"/>
                </a:cubicBezTo>
                <a:cubicBezTo>
                  <a:pt x="23380" y="11321"/>
                  <a:pt x="23400" y="11304"/>
                  <a:pt x="23439" y="11295"/>
                </a:cubicBezTo>
                <a:cubicBezTo>
                  <a:pt x="23440" y="11345"/>
                  <a:pt x="23410" y="11386"/>
                  <a:pt x="23386" y="11431"/>
                </a:cubicBezTo>
                <a:cubicBezTo>
                  <a:pt x="23349" y="11500"/>
                  <a:pt x="23310" y="11568"/>
                  <a:pt x="23275" y="11638"/>
                </a:cubicBezTo>
                <a:cubicBezTo>
                  <a:pt x="23261" y="11666"/>
                  <a:pt x="23250" y="11692"/>
                  <a:pt x="23241" y="11721"/>
                </a:cubicBezTo>
              </a:path>
              <a:path w="4316" h="716">
                <a:moveTo>
                  <a:pt x="23126" y="11572"/>
                </a:moveTo>
                <a:cubicBezTo>
                  <a:pt x="23156" y="11572"/>
                  <a:pt x="23185" y="11571"/>
                  <a:pt x="23215" y="11568"/>
                </a:cubicBezTo>
                <a:cubicBezTo>
                  <a:pt x="23274" y="11562"/>
                  <a:pt x="23332" y="11559"/>
                  <a:pt x="23390" y="11550"/>
                </a:cubicBezTo>
                <a:cubicBezTo>
                  <a:pt x="23438" y="11542"/>
                  <a:pt x="23455" y="11539"/>
                  <a:pt x="23486" y="11530"/>
                </a:cubicBezTo>
              </a:path>
              <a:path w="4316" h="716">
                <a:moveTo>
                  <a:pt x="23518" y="11447"/>
                </a:moveTo>
                <a:cubicBezTo>
                  <a:pt x="23500" y="11451"/>
                  <a:pt x="23495" y="11452"/>
                  <a:pt x="23483" y="11454"/>
                </a:cubicBezTo>
                <a:cubicBezTo>
                  <a:pt x="23527" y="11450"/>
                  <a:pt x="23571" y="11438"/>
                  <a:pt x="23614" y="11425"/>
                </a:cubicBezTo>
                <a:cubicBezTo>
                  <a:pt x="23687" y="11404"/>
                  <a:pt x="23760" y="11380"/>
                  <a:pt x="23832" y="11355"/>
                </a:cubicBezTo>
                <a:cubicBezTo>
                  <a:pt x="23869" y="11342"/>
                  <a:pt x="23904" y="11325"/>
                  <a:pt x="23940" y="11308"/>
                </a:cubicBezTo>
              </a:path>
              <a:path w="4316" h="716">
                <a:moveTo>
                  <a:pt x="23822" y="11342"/>
                </a:moveTo>
                <a:cubicBezTo>
                  <a:pt x="23766" y="11410"/>
                  <a:pt x="23714" y="11481"/>
                  <a:pt x="23668" y="11557"/>
                </a:cubicBezTo>
                <a:cubicBezTo>
                  <a:pt x="23665" y="11562"/>
                  <a:pt x="23608" y="11657"/>
                  <a:pt x="23614" y="11661"/>
                </a:cubicBezTo>
                <a:cubicBezTo>
                  <a:pt x="23622" y="11660"/>
                  <a:pt x="23630" y="11660"/>
                  <a:pt x="23638" y="11659"/>
                </a:cubicBezTo>
              </a:path>
              <a:path w="4316" h="716">
                <a:moveTo>
                  <a:pt x="24060" y="11367"/>
                </a:moveTo>
                <a:cubicBezTo>
                  <a:pt x="24086" y="11386"/>
                  <a:pt x="24058" y="11412"/>
                  <a:pt x="24034" y="11440"/>
                </a:cubicBezTo>
                <a:cubicBezTo>
                  <a:pt x="23995" y="11485"/>
                  <a:pt x="23958" y="11529"/>
                  <a:pt x="23922" y="11576"/>
                </a:cubicBezTo>
                <a:cubicBezTo>
                  <a:pt x="23900" y="11604"/>
                  <a:pt x="23868" y="11634"/>
                  <a:pt x="23909" y="11646"/>
                </a:cubicBezTo>
              </a:path>
              <a:path w="4316" h="716">
                <a:moveTo>
                  <a:pt x="24321" y="11362"/>
                </a:moveTo>
                <a:cubicBezTo>
                  <a:pt x="24282" y="11364"/>
                  <a:pt x="24259" y="11376"/>
                  <a:pt x="24229" y="11405"/>
                </a:cubicBezTo>
                <a:cubicBezTo>
                  <a:pt x="24194" y="11440"/>
                  <a:pt x="24160" y="11484"/>
                  <a:pt x="24145" y="11531"/>
                </a:cubicBezTo>
                <a:cubicBezTo>
                  <a:pt x="24133" y="11571"/>
                  <a:pt x="24144" y="11601"/>
                  <a:pt x="24188" y="11603"/>
                </a:cubicBezTo>
                <a:cubicBezTo>
                  <a:pt x="24243" y="11606"/>
                  <a:pt x="24300" y="11579"/>
                  <a:pt x="24342" y="11546"/>
                </a:cubicBezTo>
                <a:cubicBezTo>
                  <a:pt x="24390" y="11508"/>
                  <a:pt x="24447" y="11440"/>
                  <a:pt x="24439" y="11374"/>
                </a:cubicBezTo>
                <a:cubicBezTo>
                  <a:pt x="24435" y="11341"/>
                  <a:pt x="24404" y="11324"/>
                  <a:pt x="24374" y="11330"/>
                </a:cubicBezTo>
                <a:cubicBezTo>
                  <a:pt x="24346" y="11336"/>
                  <a:pt x="24334" y="11358"/>
                  <a:pt x="24325" y="11381"/>
                </a:cubicBezTo>
              </a:path>
              <a:path w="4316" h="716">
                <a:moveTo>
                  <a:pt x="24555" y="11340"/>
                </a:moveTo>
                <a:cubicBezTo>
                  <a:pt x="24585" y="11347"/>
                  <a:pt x="24553" y="11385"/>
                  <a:pt x="24534" y="11415"/>
                </a:cubicBezTo>
                <a:cubicBezTo>
                  <a:pt x="24497" y="11476"/>
                  <a:pt x="24453" y="11531"/>
                  <a:pt x="24421" y="11595"/>
                </a:cubicBezTo>
                <a:cubicBezTo>
                  <a:pt x="24451" y="11584"/>
                  <a:pt x="24458" y="11574"/>
                  <a:pt x="24481" y="11548"/>
                </a:cubicBezTo>
              </a:path>
              <a:path w="4316" h="716">
                <a:moveTo>
                  <a:pt x="24607" y="11330"/>
                </a:moveTo>
                <a:cubicBezTo>
                  <a:pt x="24623" y="11303"/>
                  <a:pt x="24626" y="11293"/>
                  <a:pt x="24651" y="11279"/>
                </a:cubicBezTo>
                <a:cubicBezTo>
                  <a:pt x="24648" y="11319"/>
                  <a:pt x="24639" y="11357"/>
                  <a:pt x="24633" y="11397"/>
                </a:cubicBezTo>
                <a:cubicBezTo>
                  <a:pt x="24626" y="11440"/>
                  <a:pt x="24614" y="11496"/>
                  <a:pt x="24639" y="11536"/>
                </a:cubicBezTo>
                <a:cubicBezTo>
                  <a:pt x="24662" y="11573"/>
                  <a:pt x="24711" y="11565"/>
                  <a:pt x="24744" y="11551"/>
                </a:cubicBezTo>
                <a:cubicBezTo>
                  <a:pt x="24805" y="11524"/>
                  <a:pt x="24848" y="11463"/>
                  <a:pt x="24883" y="11409"/>
                </a:cubicBezTo>
                <a:cubicBezTo>
                  <a:pt x="24916" y="11358"/>
                  <a:pt x="24942" y="11301"/>
                  <a:pt x="24954" y="11242"/>
                </a:cubicBezTo>
                <a:cubicBezTo>
                  <a:pt x="24958" y="11215"/>
                  <a:pt x="24959" y="11207"/>
                  <a:pt x="24958" y="1119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164360" y="3179880"/>
            <a:ext cx="1903320" cy="498240"/>
          </a:xfrm>
          <a:custGeom>
            <a:avLst/>
            <a:gdLst/>
            <a:ahLst/>
            <a:rect l="l" t="t" r="r" b="b"/>
            <a:pathLst>
              <a:path w="5289" h="1385">
                <a:moveTo>
                  <a:pt x="20520" y="10087"/>
                </a:moveTo>
                <a:cubicBezTo>
                  <a:pt x="20832" y="10167"/>
                  <a:pt x="21150" y="10178"/>
                  <a:pt x="21472" y="10189"/>
                </a:cubicBezTo>
                <a:cubicBezTo>
                  <a:pt x="22165" y="10213"/>
                  <a:pt x="22857" y="10222"/>
                  <a:pt x="23550" y="10185"/>
                </a:cubicBezTo>
                <a:cubicBezTo>
                  <a:pt x="24010" y="10161"/>
                  <a:pt x="24543" y="10156"/>
                  <a:pt x="24968" y="9956"/>
                </a:cubicBezTo>
                <a:cubicBezTo>
                  <a:pt x="25114" y="9887"/>
                  <a:pt x="25238" y="9776"/>
                  <a:pt x="25163" y="9606"/>
                </a:cubicBezTo>
                <a:cubicBezTo>
                  <a:pt x="25040" y="9329"/>
                  <a:pt x="24620" y="9175"/>
                  <a:pt x="24361" y="9085"/>
                </a:cubicBezTo>
                <a:cubicBezTo>
                  <a:pt x="23436" y="8762"/>
                  <a:pt x="22390" y="8767"/>
                  <a:pt x="21439" y="8958"/>
                </a:cubicBezTo>
                <a:cubicBezTo>
                  <a:pt x="21052" y="9036"/>
                  <a:pt x="20182" y="9193"/>
                  <a:pt x="19956" y="9579"/>
                </a:cubicBezTo>
                <a:cubicBezTo>
                  <a:pt x="19908" y="9660"/>
                  <a:pt x="19891" y="9684"/>
                  <a:pt x="19900" y="9749"/>
                </a:cubicBezTo>
                <a:cubicBezTo>
                  <a:pt x="20030" y="9878"/>
                  <a:pt x="20117" y="9960"/>
                  <a:pt x="20302" y="10035"/>
                </a:cubicBezTo>
                <a:cubicBezTo>
                  <a:pt x="20492" y="10112"/>
                  <a:pt x="20693" y="10160"/>
                  <a:pt x="20890" y="1021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9290A1-60A6-459F-A823-C119A3EBD227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1.2 tools suit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lipse (up to 3.0m4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uilder (up to 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Beans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3.4.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and line incremental 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tecode wea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J Brow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2906D8-1CD5-4B36-91EB-C7D21E741493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380520" y="51814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38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2. next generation ajd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4-03-25T15:08:41Z</dcterms:modified>
  <cp:revision>500</cp:revision>
  <dc:subject/>
  <dc:title>Aspect-Oriented Programming with AspectJ</dc:title>
</cp:coreProperties>
</file>