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00FD3F6-BF65-4D54-BDE9-AB4368002C40}"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C3B6D05-054C-4D59-A72A-DF7CA65581F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9917A93-1063-4670-B8E6-D5C464F681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68D61E-591C-4EBA-88D5-DFA5A034D6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66260C5-EB83-487B-B6C7-0AFD9B3F36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5BFBC9C-93F2-45F4-A3F2-EFEED4F4B0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6572A18-A675-4E19-BE11-D2266B90868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7EC24FF-E0C8-4ED5-982F-2AA3223FACD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50D59B2-8C2E-4585-B4EB-3F1F1AA1420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5CC79FD-14FB-4D26-ACBA-B5D84E43A6A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F76A60E-8CAE-4847-826D-9CA3F0C8BA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351FF78-E2EA-4986-AA47-1EF30064420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75B21B5-5FEC-474E-A925-2D6D611E12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D35706-CAA4-4ED1-BAC3-774D630CCF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3E2AB56-2BA8-4859-B71E-7DDB297077A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A170D3E-A560-4488-BFEF-AA4C3284BCC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E067D6B-8347-4444-A91A-6B82E15BAB0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ED7E36D-6799-404F-ADBB-8F973AEC0A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B68FE6E-144F-44E8-A391-73B018242A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FE874D-560B-4D74-9397-E8A057FFA0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CE620F-AD88-401F-B35F-33BAA016BB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F88430-96FB-496E-91FA-E9C9B7BCDF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280FAD-475B-467F-A040-F5FE980017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12DDFF-06C8-4A90-9821-8B6FAE762F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AB0A29-3081-49D4-B10C-3987D4BA5A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8F00B4-5A0A-4BF1-A57A-779D42A678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60B34-3DD7-4328-8E9E-3F8DE6A27211}"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AC48D-E9DE-44F8-ADAD-FCC717ADEC1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D2CA8A8-0447-4844-A533-F2FB17B36A8C}"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7BFBF09-91DD-4EB6-88AC-537F6A39D37C}"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EE64B80-6B7B-4F03-BB75-DE1417F3742E}"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48B690A-F4BA-452B-8A25-9666890E26AE}"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C1CC8D1-D7F9-4189-8332-B948045054D1}"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82EA8EE-5390-4415-A0C1-96F25C8073F4}"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00F518-3C58-4C3B-B3A6-32DA0C10DDAA}"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0D5BF2F-8390-4758-8251-1691D4067B15}"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3A6D2CC-B4FC-4D2C-B8E3-FC3FB43B367E}"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8F4396E-E6B8-43D8-8CD3-5F8CD9361AB5}"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E2C8A62-C6E6-4DD4-85E7-B564234CFC29}"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EFC2921-02A5-4F55-BA55-FFDFCAEDEC96}"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A20B363-4C14-4434-8DA9-D36EC249FDD1}"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22D4F14-B8B8-4A8B-9CB9-21D39577D2C0}"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CDF2C93-38B7-4E49-9547-0CED00E38E1F}"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E805A58-4C00-4DBD-8891-FC75FBC9BDA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1CD6B86-43DB-4895-809C-787D54722DB3}"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700DBE9-DD32-4998-B787-4B5F6FD996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DD861664-B9DE-4864-A86C-FDAAC7663AFC}"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E8673E1-F5E6-4C6E-BD34-E5FFC99FB7A3}"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5500FCB-FB1F-42C4-AFA0-D9ABBF4C60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CFA6872-5695-469C-BAC9-B51FC0F9AD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E33BFAC-8269-472C-B5F8-8A9858D6C95E}"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93D11C4-F94D-4A1B-A5F7-37AA7B12EE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795EB49-7096-405F-B6A2-E2CAB4AB9E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08A4759-CEA4-4E25-B1E5-1D897DE0E2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C3693D4-88B7-49E4-ACCA-DCC7699BDB27}"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210B90-6A9F-4501-9B2B-5F7A646B00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C1720C-873B-42AF-BBDB-992AF93494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139069E-A6E0-4EB0-855E-2064C4CC6E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D48DACC-B29E-40C1-A70F-FEBF514D4CF8}"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8FD6AA4-58B7-4CC3-9DBF-3531AF9C9F8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C5F6B1-5CC6-4906-AB2E-1DD230430A9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C56D7CB-BA35-4346-B4BF-0319DD404989}"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96A634F-F3FB-4D0B-AAFB-DEC3F67DE9F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B4FBB73-14C1-431A-836D-ECCCEC59A72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632A3F-833C-4977-923F-ABAB35F3CF9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BC1F548-CD6A-4F3C-BD4C-55DB5872B85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D45998F-8486-48E4-90AA-7C3AFB8507F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EA3B87-4868-462F-8FFA-07D185E531B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9EB154A-9F4B-48B4-8D9B-4D6B5154C48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9A673C5-35F6-4DFD-8800-4D8AAB8C928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7820D95-BB57-464E-A88E-DE628AA8A4D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F558545-30DC-4BD4-8EDF-2F4CB892A36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0FEBE14-3AC1-42D1-B2AF-DEB236D5E5A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F570F26-8FF3-4D22-92D1-D433E5A7F4D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3559E93-BC88-440D-BFFF-5FAD2350AD89}"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316D888-328F-4D9E-AA7C-63282D39C85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D2DB41-1D44-4506-9277-06075FDDD36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7B4AEC6-0BF8-46C8-9F9E-C6F2DC0078D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6877C48-BDEC-4498-B14B-26E976EF03A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6428C32-08DE-4864-9AFF-3832329719C8}"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9A3381E-A256-44E2-8B50-92759E7DCBE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01B223B-D0F2-4A1B-88DA-D7D13587E46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CD5D7F4-0C2D-49AF-A119-EF58B0B9214B}"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C622CD0-5F70-4E21-A184-0AED030EAE72}"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D6BEB5-E3D8-41BB-A8E1-77741232542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B7378C-EA2F-4BA7-9895-D6115E4D60D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3DD68D4-5D44-4576-8B29-6462FE576D9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23C9556-62EF-477D-9D49-86EE7B4A8F44}"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26BC966-8240-4E48-B66A-0993D004450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F068126-EAD9-49C9-AA17-188F971F0588}"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677F7D4-FEF4-40F8-9DC8-DD97E5A3098C}"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E1FB89C-A40F-4D88-ABBE-88A81C1698F5}"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58E90B1-4DD0-44D5-8C02-43D817083B6D}"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07E946C-B7DF-41FD-9D05-73029C615697}"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9A1B19B-958C-4F95-B20F-4DAA00E862AB}"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58680FA-2EE0-4C09-A516-19F95CFA6687}"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97E51A7-0319-4805-82AA-942DEC7D53EB}"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D8F261B-69A2-406A-914B-D3AC96B82983}"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E4F81A-DD7B-475F-A4EE-993EFC36B67E}"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537F4CF-1CE7-4492-8E73-A7849833F7A7}"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8A27423-132B-4DA3-B4A3-4A0AEDD0592F}"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70B604A-51AD-4AB1-B676-9AFC254F6AD3}"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DCCD9EB-B202-43B6-BC5F-DE1AB101164D}"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FDBD75B-E8FA-4B18-85B4-CA68A4F8CE6B}"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DEA39E3-38C1-4C9C-BC20-E6C633CC1C26}"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3FF63A7-930F-4C8D-958B-B63A9009C31A}"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70D1476-CD12-41BF-BB56-ED71058F4C65}"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5A0D5C0-8BF6-44B4-B160-2266259E2AFF}"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DBBCC26-33BA-443A-AE5D-2BB980DF80C7}"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C58C5EE-0B75-43C5-9E87-61B2DB748EE5}"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AE4FA1D-88C0-4D59-9AB2-4048AB31063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A5ACCE2-D8D8-4C25-B0AA-7E61A2CB631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FD789CA-073E-44A7-853F-6C084377830B}"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79EDF2-E884-4751-9749-F0ABD8242D45}"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012FB5C-7BA1-4C50-9E51-96F7AAC52657}"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9A9CD33-772B-4F27-AAD6-56C1F2F7A62A}"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7947F02-F8F0-4515-8A67-3C5D9D5112B6}"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8F393A8-2CA0-41BA-AE58-6AD9D325FEC9}"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2D84618-3668-4BCC-A3A6-209F0C386D77}"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7362ADD-0500-45FE-9012-B1006ED66856}"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5C2B2CF-71C9-4285-B7D1-F0708205E20F}"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2E67C72-41DA-4B4A-B4AA-84B3E083A633}"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C8ACB45D-6B84-446F-8050-CC5FA0152298}"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73D3612-3A51-4791-A9AE-8C60B0DE615D}"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E34B86-B30B-48BA-BE91-D1E67F366A3B}"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55E226C-3D75-4AE9-96A4-F7E3D5A4206F}"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50B7DE-1CC9-4574-8066-BE66C19F863A}"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5608450-8436-4B9D-9E31-3820E7A12145}"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2739ED4-B7D3-499A-9151-22560E831529}"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3F7430-C4D9-4F38-8513-A254CA9BB6A0}"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B762068-1835-47CF-98DA-BFFDCF738921}"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1A9929B-5881-4B0E-9021-E75C1AF37C0E}"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FFE610-1FCE-45B9-913B-90A53C493C5D}"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DF61724-2C83-40A5-A384-3238D00339B2}"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FFF69814-4A67-4426-BA5B-D4BE9E367E8E}"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E13D6F7-D07F-46A8-B4F5-8107B013BFE7}"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85CD305-CD7A-429C-855E-BF6A99FEC69E}"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B76138B-39EA-43DF-BCF9-A4E1E3714046}"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6E2576C-81BB-4689-9D44-309136126CCB}"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18AFEB6-7292-48E7-B498-41FE1694A5C3}"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